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7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907588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2D58-056F-4E7B-938E-1602A5387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7A3A-CA7C-4F5E-8214-CE61E964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42F7-6914-43B8-9F9C-3E8393FC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3D6E-291D-4A11-A329-07BC61ED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5986-7409-417C-ADFA-3D8DB7E7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FD53-FF15-491F-9BF1-67113430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1753-CE38-451F-8669-7C9EA6C8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0857-27A5-4F11-9BBF-FC10FA44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E0BF-D170-4B60-A662-89879CBF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F1DD-2E61-4FA8-AB9E-8510B2D2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E4BE-DCAA-43EE-AFAC-EF20C2AA3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EBF8-5235-44C8-9EA7-23C82C096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3840" y="182520"/>
            <a:ext cx="9520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23840" y="6438960"/>
            <a:ext cx="9520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38920" y="6248520"/>
            <a:ext cx="2514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067520" y="6340320"/>
            <a:ext cx="2146320" cy="4413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68200" y="6381720"/>
            <a:ext cx="1047960" cy="1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IfM logo"/>
          <p:cNvPicPr/>
          <p:nvPr/>
        </p:nvPicPr>
        <p:blipFill>
          <a:blip r:embed="rId3"/>
          <a:stretch/>
        </p:blipFill>
        <p:spPr>
          <a:xfrm>
            <a:off x="493560" y="6316560"/>
            <a:ext cx="723960" cy="3524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4D8B-8A61-482B-B41A-552A33B55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31800" y="603360"/>
            <a:ext cx="904068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333399"/>
                </a:solidFill>
                <a:latin typeface="Arial Narrow"/>
              </a:rPr>
              <a:t>Business appraisal of technology potenti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3333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333399"/>
                </a:solidFill>
                <a:latin typeface="Arial Narrow"/>
              </a:rPr>
              <a:t>assessing and communicating the value of 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Arial Narrow"/>
              </a:rPr>
              <a:t>Symposium Worksh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 Narrow"/>
              </a:rPr>
              <a:t>Wednesday 28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Arial Narrow"/>
              </a:rPr>
              <a:t>th</a:t>
            </a:r>
            <a:r>
              <a:rPr b="0" i="1" lang="en-GB" sz="2000" spc="-1" strike="noStrike">
                <a:solidFill>
                  <a:srgbClr val="000000"/>
                </a:solidFill>
                <a:latin typeface="Arial Narrow"/>
              </a:rPr>
              <a:t> September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 Narrow"/>
              </a:rPr>
              <a:t>Clare Farrukh, Marcel Dissel and Francis H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 Narrow"/>
              </a:rPr>
              <a:t>Institute for Manufa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 Narrow"/>
              </a:rPr>
              <a:t>EPSRC IMRC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 Narrow"/>
              </a:rPr>
              <a:t>September 2004-August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93600" y="573120"/>
            <a:ext cx="679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99"/>
                </a:solidFill>
                <a:latin typeface="Arial Narrow"/>
              </a:rPr>
              <a:t>Real Options for early-stage techn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8080" y="1781280"/>
            <a:ext cx="9698040" cy="24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describe range of ide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s thin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by including managerial flex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 options val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adapting mathematical models from fi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sion tree analy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quantifying value of cho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829560" y="1095480"/>
            <a:ext cx="2860200" cy="1620360"/>
            <a:chOff x="6829560" y="1095480"/>
            <a:chExt cx="2860200" cy="1620360"/>
          </a:xfrm>
        </p:grpSpPr>
        <p:sp>
          <p:nvSpPr>
            <p:cNvPr id="138" name=""/>
            <p:cNvSpPr/>
            <p:nvPr/>
          </p:nvSpPr>
          <p:spPr>
            <a:xfrm>
              <a:off x="9010800" y="1095480"/>
              <a:ext cx="223560" cy="208800"/>
            </a:xfrm>
            <a:prstGeom prst="ellipse">
              <a:avLst/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724520" y="1566000"/>
              <a:ext cx="223560" cy="208800"/>
            </a:xfrm>
            <a:prstGeom prst="ellipse">
              <a:avLst/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29560" y="1566000"/>
              <a:ext cx="223560" cy="208800"/>
            </a:xfrm>
            <a:prstGeom prst="ellipse">
              <a:avLst/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61400" y="1670400"/>
              <a:ext cx="671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7892280" y="1262520"/>
              <a:ext cx="268920" cy="31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347680" y="1199880"/>
              <a:ext cx="671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892280" y="1759680"/>
              <a:ext cx="248040" cy="29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8283600" y="1844640"/>
              <a:ext cx="260640" cy="24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242640" y="1199880"/>
              <a:ext cx="447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739360" y="1774800"/>
              <a:ext cx="391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731080" y="2611800"/>
              <a:ext cx="391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15840" y="1095480"/>
              <a:ext cx="223200" cy="208800"/>
            </a:xfrm>
            <a:prstGeom prst="ellipse">
              <a:avLst/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507160" y="1670400"/>
              <a:ext cx="223560" cy="209160"/>
            </a:xfrm>
            <a:prstGeom prst="ellipse">
              <a:avLst/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15840" y="2036520"/>
              <a:ext cx="223200" cy="208800"/>
            </a:xfrm>
            <a:prstGeom prst="ellipse">
              <a:avLst/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507160" y="2507040"/>
              <a:ext cx="223560" cy="208800"/>
            </a:xfrm>
            <a:prstGeom prst="ellipse">
              <a:avLst/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90800" y="2223720"/>
              <a:ext cx="248040" cy="29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69720" y="4146480"/>
            <a:ext cx="9290160" cy="1725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ons thinking has potential for early stage technology 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hematical models can often seen as a black box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ing in lack of accept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932840" y="1293840"/>
            <a:ext cx="128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 R&amp;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32800" y="1293840"/>
            <a:ext cx="86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u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965720" y="1219320"/>
            <a:ext cx="9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65400" y="4417920"/>
            <a:ext cx="357120" cy="33012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22520" y="3757320"/>
            <a:ext cx="782640" cy="85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05160" y="3757680"/>
            <a:ext cx="53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4549680"/>
            <a:ext cx="569880" cy="9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62240" y="5541840"/>
            <a:ext cx="135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10000" y="34383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37000" y="5210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48720" y="36910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$6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25600" y="336060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$15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7240" y="5734080"/>
            <a:ext cx="86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V@12%  =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-$6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-$15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1.12     +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$10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1.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=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-$11.4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995600" y="337968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+$10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38188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Decision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932120" y="1071720"/>
            <a:ext cx="128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 R&amp;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47280" y="1071720"/>
            <a:ext cx="9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&amp;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31720" y="1071720"/>
            <a:ext cx="86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u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965360" y="996840"/>
            <a:ext cx="9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65400" y="4195800"/>
            <a:ext cx="357120" cy="33012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86000" y="3402000"/>
            <a:ext cx="285840" cy="26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77353" dir="56247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622520" y="3535200"/>
            <a:ext cx="782640" cy="85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05160" y="3535200"/>
            <a:ext cx="78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92360" y="4327560"/>
            <a:ext cx="569880" cy="9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62240" y="5319720"/>
            <a:ext cx="135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71840" y="3535200"/>
            <a:ext cx="440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471840" y="2476080"/>
            <a:ext cx="853920" cy="10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89120" y="321624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19360" y="4987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27560" y="213984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el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71840" y="3535200"/>
            <a:ext cx="853920" cy="10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4325400" y="4592520"/>
            <a:ext cx="35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4325400" y="2476440"/>
            <a:ext cx="35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9760" y="32036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9760" y="42084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40160" y="2530440"/>
            <a:ext cx="497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40560" y="3135240"/>
            <a:ext cx="497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38560" y="3992400"/>
            <a:ext cx="497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17760" y="3468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$6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89240" y="207972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$15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89240" y="313848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$15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89240" y="419400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$15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5920" y="5340240"/>
            <a:ext cx="814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-$6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-$15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1.12 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0.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$60m 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$10m + 0.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$60m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1.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=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-$5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956720" y="209088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+$60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56720" y="315756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+$10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956360" y="421308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$60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1760" y="285480"/>
            <a:ext cx="838188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Decision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6920" y="398520"/>
            <a:ext cx="1473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obability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39800" y="1119240"/>
            <a:ext cx="2496960" cy="1716120"/>
          </a:xfrm>
          <a:custGeom>
            <a:avLst/>
            <a:gdLst/>
            <a:ahLst/>
            <a:rect l="l" t="t" r="r" b="b"/>
            <a:pathLst>
              <a:path w="1497" h="1178">
                <a:moveTo>
                  <a:pt x="137" y="0"/>
                </a:moveTo>
                <a:cubicBezTo>
                  <a:pt x="68" y="408"/>
                  <a:pt x="0" y="816"/>
                  <a:pt x="227" y="997"/>
                </a:cubicBezTo>
                <a:cubicBezTo>
                  <a:pt x="454" y="1178"/>
                  <a:pt x="1285" y="1073"/>
                  <a:pt x="1497" y="1088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932840" y="1293840"/>
            <a:ext cx="128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 R&amp;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5400" y="1293840"/>
            <a:ext cx="9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&amp;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94280" y="129384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u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965720" y="1219320"/>
            <a:ext cx="9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65400" y="4417920"/>
            <a:ext cx="357120" cy="33012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08400" y="4616280"/>
            <a:ext cx="355680" cy="33048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08400" y="3559320"/>
            <a:ext cx="355680" cy="33012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08400" y="2500200"/>
            <a:ext cx="355680" cy="33048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86000" y="3624120"/>
            <a:ext cx="285840" cy="26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77353" dir="56247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45320" y="2235240"/>
            <a:ext cx="284040" cy="26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77353" dir="56247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622520" y="3757320"/>
            <a:ext cx="782640" cy="85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405160" y="3757680"/>
            <a:ext cx="78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92360" y="4549680"/>
            <a:ext cx="569880" cy="9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62240" y="5541840"/>
            <a:ext cx="135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471840" y="3757680"/>
            <a:ext cx="163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3471840" y="2698560"/>
            <a:ext cx="853920" cy="10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49920" y="2368440"/>
            <a:ext cx="99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49920" y="5013360"/>
            <a:ext cx="99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64080" y="4748040"/>
            <a:ext cx="285840" cy="2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464080" y="2368440"/>
            <a:ext cx="28584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610000" y="34383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55560" y="201312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637000" y="5210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52680" y="46702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86720" y="236232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el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71840" y="3757680"/>
            <a:ext cx="853920" cy="10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4325760" y="4815000"/>
            <a:ext cx="78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4325760" y="2698920"/>
            <a:ext cx="78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94880" y="34257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93440" y="44308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48720" y="36910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$6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925600" y="230184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$15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995600" y="231300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+$60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39080" y="2349360"/>
            <a:ext cx="99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" y="5638680"/>
            <a:ext cx="96775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-$6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- 0.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$15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1.12  +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0.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$ 60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1.12</a:t>
            </a:r>
            <a:r>
              <a:rPr b="0" lang="en-US" sz="2400" spc="-1" strike="noStrike" baseline="5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$2.2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Decision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43440" y="3987720"/>
            <a:ext cx="99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59400" y="3722760"/>
            <a:ext cx="284040" cy="26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46200" y="36450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337200" y="2846520"/>
            <a:ext cx="497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5480" y="3357720"/>
            <a:ext cx="497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59440" y="4214880"/>
            <a:ext cx="497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55760" y="6413400"/>
            <a:ext cx="553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ying options thinking to R&amp;D evaluation” (Faulkner 1996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Decision trees: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transition to the real wor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15760" y="1496520"/>
            <a:ext cx="845028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id that 0.3 probability come from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ical records, expert opin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not be accepted by accountants BUT is more accurat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easy to use, generates understa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till doesn’t look very realistic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e Carlo simu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than DCF if you can credibly identify differ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comes and their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pts thinking on how to improve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used in conjunction with established financial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es the benefits of “options thinking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1520" y="606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Decision trees and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 Monte Carlo simul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69680" y="2085840"/>
            <a:ext cx="8450280" cy="40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 of a software tool to help support “options think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981080" y="304920"/>
            <a:ext cx="596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Technology roadmapping and ‘value roadmap’ concep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" y="1612800"/>
            <a:ext cx="9067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chnology roadmap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ed widely in indust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o align technology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duct development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rket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approach is flexible, and both the architecture and process can be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customised to suit a wide range of strategic contex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‘value roadmap’ concept was developed in 2003 in collabora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with BAE SYSTEMS to support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ploratio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mmunicatio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of the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value potential of early stage technology develop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4210560" y="1366920"/>
            <a:ext cx="4717440" cy="2286000"/>
            <a:chOff x="4210560" y="1366920"/>
            <a:chExt cx="4717440" cy="2286000"/>
          </a:xfrm>
        </p:grpSpPr>
        <p:sp>
          <p:nvSpPr>
            <p:cNvPr id="254" name=""/>
            <p:cNvSpPr/>
            <p:nvPr/>
          </p:nvSpPr>
          <p:spPr>
            <a:xfrm>
              <a:off x="5422680" y="1595520"/>
              <a:ext cx="3505320" cy="685800"/>
            </a:xfrm>
            <a:prstGeom prst="rect">
              <a:avLst/>
            </a:prstGeom>
            <a:solidFill>
              <a:srgbClr val="dd9e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22680" y="2281320"/>
              <a:ext cx="3505320" cy="68580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22680" y="2967120"/>
              <a:ext cx="3505320" cy="6858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75320" y="3348000"/>
              <a:ext cx="1143000" cy="152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70600" y="3348000"/>
              <a:ext cx="1447920" cy="152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61120" y="3043440"/>
              <a:ext cx="91440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56400" y="3043440"/>
              <a:ext cx="68580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108480" y="2662200"/>
              <a:ext cx="1067040" cy="152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327800" y="2662200"/>
              <a:ext cx="1371600" cy="152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13400" y="2357640"/>
              <a:ext cx="60948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175520" y="2357640"/>
              <a:ext cx="114300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37080" y="2052720"/>
              <a:ext cx="60984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175520" y="2052720"/>
              <a:ext cx="152388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556400" y="1747800"/>
              <a:ext cx="609480" cy="152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651280" y="2357640"/>
              <a:ext cx="60984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18520" y="1366920"/>
              <a:ext cx="609480" cy="457200"/>
            </a:xfrm>
            <a:prstGeom prst="rightArrow">
              <a:avLst>
                <a:gd name="adj1" fmla="val 68750"/>
                <a:gd name="adj2" fmla="val 3332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25280" y="1768680"/>
              <a:ext cx="717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28080" y="244980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10560" y="3141720"/>
              <a:ext cx="111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Technolo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718320" y="34243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175520" y="31194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75520" y="27385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022880" y="24336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61120" y="24336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946920" y="21290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565680" y="3195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7632720" y="3195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7708680" y="2814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5879880" y="2509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8470800" y="2205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642000" y="22050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8600" y="838080"/>
            <a:ext cx="9448920" cy="1219320"/>
          </a:xfrm>
          <a:prstGeom prst="rect">
            <a:avLst/>
          </a:prstGeom>
          <a:solidFill>
            <a:srgbClr val="fffcb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8600" y="2057400"/>
            <a:ext cx="9448920" cy="2286000"/>
          </a:xfrm>
          <a:prstGeom prst="rect">
            <a:avLst/>
          </a:prstGeom>
          <a:solidFill>
            <a:srgbClr val="fffcb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" y="4343400"/>
            <a:ext cx="9448920" cy="1295280"/>
          </a:xfrm>
          <a:prstGeom prst="rect">
            <a:avLst/>
          </a:prstGeom>
          <a:solidFill>
            <a:srgbClr val="fffcb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8600" y="5638680"/>
            <a:ext cx="9448920" cy="1143000"/>
          </a:xfrm>
          <a:prstGeom prst="rect">
            <a:avLst/>
          </a:prstGeom>
          <a:solidFill>
            <a:srgbClr val="fffcb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32920" y="1143000"/>
            <a:ext cx="183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rket &amp; 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rends &amp; dri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rot="16200000">
            <a:off x="-190080" y="300240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Value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2200" y="4343400"/>
            <a:ext cx="18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on-techn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nablers &amp; barr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32200" y="4997520"/>
            <a:ext cx="18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echn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nablers &amp; barr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31480" y="5759280"/>
            <a:ext cx="131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esearch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ogram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7600" y="2089080"/>
            <a:ext cx="99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roducts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7240" y="2655720"/>
            <a:ext cx="1200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Businesses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fac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7600" y="3243240"/>
            <a:ext cx="141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echnology /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89040" y="3625920"/>
            <a:ext cx="178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st / risk re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9040" y="3986280"/>
            <a:ext cx="15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trategic 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8600" y="5029200"/>
            <a:ext cx="9448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39625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" y="35812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320040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27097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438280" y="838080"/>
            <a:ext cx="0" cy="5943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438280" y="762120"/>
            <a:ext cx="0" cy="601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67080" y="762120"/>
            <a:ext cx="0" cy="601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762120"/>
            <a:ext cx="0" cy="601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772400" y="762120"/>
            <a:ext cx="0" cy="601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915400" y="762120"/>
            <a:ext cx="0" cy="601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973960" y="53352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94400" y="533520"/>
            <a:ext cx="113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hort-te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343560" y="53352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dium-te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827480" y="53352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Long-te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899920" y="53352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14600" y="914400"/>
            <a:ext cx="7086600" cy="1066680"/>
          </a:xfrm>
          <a:custGeom>
            <a:avLst/>
            <a:gdLst>
              <a:gd name="textAreaLeft" fmla="*/ 0 w 7086600"/>
              <a:gd name="textAreaRight" fmla="*/ 7086960 w 7086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0" y="0"/>
                </a:lnTo>
                <a:lnTo>
                  <a:pt x="21600" y="10800"/>
                </a:lnTo>
                <a:lnTo>
                  <a:pt x="2029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9e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ntext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ocial, technological, economic, environmental &amp; political trends &amp; dr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ustomer &amp; competitor intellig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Business strategy, objectives &amp; milest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514600" y="2133720"/>
            <a:ext cx="7086600" cy="2133360"/>
          </a:xfrm>
          <a:custGeom>
            <a:avLst/>
            <a:gdLst>
              <a:gd name="textAreaLeft" fmla="*/ 0 w 7086600"/>
              <a:gd name="textAreaRight" fmla="*/ 7086960 w 708660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0" y="0"/>
                </a:lnTo>
                <a:lnTo>
                  <a:pt x="21600" y="10800"/>
                </a:lnTo>
                <a:lnTo>
                  <a:pt x="2029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otential ‘value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even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ost re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ther advant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14600" y="5791320"/>
            <a:ext cx="7086600" cy="914400"/>
          </a:xfrm>
          <a:custGeom>
            <a:avLst/>
            <a:gdLst>
              <a:gd name="textAreaLeft" fmla="*/ 0 w 7086600"/>
              <a:gd name="textAreaRight" fmla="*/ 7086960 w 70866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0" y="0"/>
                </a:lnTo>
                <a:lnTo>
                  <a:pt x="21600" y="10800"/>
                </a:lnTo>
                <a:lnTo>
                  <a:pt x="2029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Milestones, investment, capab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19920" y="2209680"/>
            <a:ext cx="3278160" cy="2057400"/>
          </a:xfrm>
          <a:prstGeom prst="irregularSeal1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he richer the pi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he more likely it is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value will be gener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514600" y="4495680"/>
            <a:ext cx="7086600" cy="990720"/>
          </a:xfrm>
          <a:custGeom>
            <a:avLst/>
            <a:gdLst>
              <a:gd name="textAreaLeft" fmla="*/ 0 w 7086600"/>
              <a:gd name="textAreaRight" fmla="*/ 7086960 w 70866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0" y="0"/>
                </a:lnTo>
                <a:lnTo>
                  <a:pt x="21600" y="10800"/>
                </a:lnTo>
                <a:lnTo>
                  <a:pt x="2029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ablers &amp; barr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omplementary technologies, systems / alternati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, barriers and potential probl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77040" y="-19080"/>
            <a:ext cx="49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‘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Value roadmap’ con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7600" y="404280"/>
            <a:ext cx="891540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Example historical value roadmap: 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silicon gyro @ BA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650960" y="1700280"/>
            <a:ext cx="6604200" cy="432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4221000"/>
            <a:ext cx="9906120" cy="1224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48440" y="-19080"/>
            <a:ext cx="80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06720" y="-19080"/>
            <a:ext cx="8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199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-14400" y="4815000"/>
            <a:ext cx="9906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520" y="173160"/>
            <a:ext cx="10530000" cy="66340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387080" y="149400"/>
            <a:ext cx="9720" cy="6669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0520" y="1312920"/>
            <a:ext cx="10530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760" y="4191120"/>
            <a:ext cx="105267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760" y="4927680"/>
            <a:ext cx="105267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86840" y="1309680"/>
            <a:ext cx="1800" cy="5519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240" y="241200"/>
            <a:ext cx="935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Market &amp; Busin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Trends &amp; Driv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Soc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Technologic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Environmen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Politic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Custome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Competi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BAE SYSTE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6200000">
            <a:off x="-285120" y="2594520"/>
            <a:ext cx="76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Value Stre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16200000">
            <a:off x="-475560" y="5784480"/>
            <a:ext cx="115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Technology Capab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87200" y="2664000"/>
            <a:ext cx="10363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0440" y="2978280"/>
            <a:ext cx="10360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5760" y="3417840"/>
            <a:ext cx="10364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3680" y="3679920"/>
            <a:ext cx="10356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3680" y="5448240"/>
            <a:ext cx="10356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1760" y="1724040"/>
            <a:ext cx="109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roducts &amp; Sub-syste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8720" y="2332080"/>
            <a:ext cx="50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7800" y="2736720"/>
            <a:ext cx="913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usiness / Fac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09160" y="311616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echnology / I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9240" y="3444840"/>
            <a:ext cx="98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st / Risk Redu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12040" y="3848040"/>
            <a:ext cx="83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trategic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0320" y="4254480"/>
            <a:ext cx="907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Non-techni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Enablers / Barri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Complimentary actions /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syste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3560" y="4930920"/>
            <a:ext cx="103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echnology lev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Enablers / Barri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Complementary technologi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12760" y="5923080"/>
            <a:ext cx="858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 &amp; T Program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Mileston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Invest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Capabilities (technica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44280" y="668160"/>
            <a:ext cx="24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99"/>
                </a:solidFill>
                <a:latin typeface="Arial Narrow"/>
              </a:rPr>
              <a:t>Workshop a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92080" y="1873080"/>
            <a:ext cx="84600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discuss the contribution of both quantitative and qualitative methods in valuing early stage technology and the importance of effective visualisation and communication of options to a range of stakehol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ntroductions: name, company and what would you like to take away from the worksho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4221000"/>
            <a:ext cx="9906120" cy="1224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48440" y="-19080"/>
            <a:ext cx="80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 Narrow"/>
              </a:rPr>
              <a:t>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06720" y="-19080"/>
            <a:ext cx="8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 Narrow"/>
              </a:rPr>
              <a:t>199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11560" y="189000"/>
            <a:ext cx="19749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Internal need and need for IMU’s in other sector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F1 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Stabilised binocul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Model helicop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-14400" y="4815000"/>
            <a:ext cx="9906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0520" y="173160"/>
            <a:ext cx="10530000" cy="66340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387080" y="149400"/>
            <a:ext cx="9720" cy="6669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520" y="1312920"/>
            <a:ext cx="10530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3760" y="4191120"/>
            <a:ext cx="105267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3760" y="4927680"/>
            <a:ext cx="105267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86840" y="1309680"/>
            <a:ext cx="1800" cy="5519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1240" y="241200"/>
            <a:ext cx="935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Market &amp; Busin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Trends &amp; Driv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Soc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Technologic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Environmen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Politic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ustome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ompeti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BAE SYSTE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rot="16200000">
            <a:off x="-285120" y="2594520"/>
            <a:ext cx="76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Value Stre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16200000">
            <a:off x="-475560" y="5784480"/>
            <a:ext cx="115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Technology Capab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87200" y="2664000"/>
            <a:ext cx="10363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90440" y="2978280"/>
            <a:ext cx="10360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85760" y="3417840"/>
            <a:ext cx="10364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" y="3679920"/>
            <a:ext cx="10356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3680" y="5448240"/>
            <a:ext cx="10356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1760" y="1724040"/>
            <a:ext cx="109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Products &amp; Sub-syste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8720" y="2332080"/>
            <a:ext cx="50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Ser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17800" y="2736720"/>
            <a:ext cx="913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Business / Fac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9160" y="311616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Technology / I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19240" y="3444840"/>
            <a:ext cx="98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Cost / Risk Redu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12040" y="3848040"/>
            <a:ext cx="83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Strategic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20320" y="4254480"/>
            <a:ext cx="907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Non-techni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Enablers / Barri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omplimentary actions /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 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syste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Risk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3560" y="4930920"/>
            <a:ext cx="103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Technology lev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Enablers / Barri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omplementary technologi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Risk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12760" y="5923080"/>
            <a:ext cx="858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R &amp; T Program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Mileston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Invest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apabilities (technica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0" y="4221000"/>
            <a:ext cx="9906120" cy="1224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248440" y="-19080"/>
            <a:ext cx="80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 Narrow"/>
              </a:rPr>
              <a:t>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06720" y="-19080"/>
            <a:ext cx="8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 Narrow"/>
              </a:rPr>
              <a:t>199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11560" y="189000"/>
            <a:ext cx="19749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Internal need and need for IMU’s in other sector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F1 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Stabilised binocul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Model helicop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-14400" y="4815000"/>
            <a:ext cx="9906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0520" y="173160"/>
            <a:ext cx="10530000" cy="66340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1387080" y="149400"/>
            <a:ext cx="9720" cy="6669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520" y="1312920"/>
            <a:ext cx="10530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760" y="4191120"/>
            <a:ext cx="105267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3760" y="4927680"/>
            <a:ext cx="105267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186840" y="1309680"/>
            <a:ext cx="1800" cy="5519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1240" y="241200"/>
            <a:ext cx="935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Market &amp; Busin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Trends &amp; Driv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Soc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Technologic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Environmen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Politic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ustome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ompeti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BAE SYSTE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rot="16200000">
            <a:off x="-285120" y="2594520"/>
            <a:ext cx="76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Value Stre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16200000">
            <a:off x="-475560" y="5784480"/>
            <a:ext cx="115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Technology Capab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87200" y="2664000"/>
            <a:ext cx="10363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90440" y="2978280"/>
            <a:ext cx="10360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85760" y="3417840"/>
            <a:ext cx="10364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3680" y="3679920"/>
            <a:ext cx="10356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93680" y="5448240"/>
            <a:ext cx="10356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1760" y="1724040"/>
            <a:ext cx="109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Products &amp; Sub-syste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8720" y="2332080"/>
            <a:ext cx="50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Ser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7800" y="2736720"/>
            <a:ext cx="913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Business / Fac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09160" y="311616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Technology / I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19240" y="3444840"/>
            <a:ext cx="98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Cost / Risk Redu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12040" y="3848040"/>
            <a:ext cx="83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Strategic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20320" y="4254480"/>
            <a:ext cx="907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Non-techni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Enablers / Barri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omplimentary actions /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 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syste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Risk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23560" y="4930920"/>
            <a:ext cx="103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Technology lev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Enablers / Barri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omplementary technologi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Risk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12760" y="5923080"/>
            <a:ext cx="858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R &amp; T Program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Mileston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Invest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apabilities (technica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1292400" y="4898880"/>
            <a:ext cx="3704040" cy="1870200"/>
            <a:chOff x="1292400" y="4898880"/>
            <a:chExt cx="3704040" cy="1870200"/>
          </a:xfrm>
        </p:grpSpPr>
        <p:sp>
          <p:nvSpPr>
            <p:cNvPr id="408" name=""/>
            <p:cNvSpPr/>
            <p:nvPr/>
          </p:nvSpPr>
          <p:spPr>
            <a:xfrm>
              <a:off x="3195360" y="5353200"/>
              <a:ext cx="173880" cy="253800"/>
            </a:xfrm>
            <a:custGeom>
              <a:avLst/>
              <a:gdLst/>
              <a:ahLst/>
              <a:rect l="l" t="t" r="r" b="b"/>
              <a:pathLst>
                <a:path w="160" h="420">
                  <a:moveTo>
                    <a:pt x="0" y="4"/>
                  </a:moveTo>
                  <a:cubicBezTo>
                    <a:pt x="53" y="2"/>
                    <a:pt x="106" y="1"/>
                    <a:pt x="160" y="0"/>
                  </a:cubicBezTo>
                  <a:lnTo>
                    <a:pt x="160" y="42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082760" y="6299280"/>
              <a:ext cx="89280" cy="438120"/>
            </a:xfrm>
            <a:custGeom>
              <a:avLst/>
              <a:gdLst>
                <a:gd name="textAreaLeft" fmla="*/ 0 w 89280"/>
                <a:gd name="textAreaRight" fmla="*/ 32040 w 89280"/>
                <a:gd name="textAreaTop" fmla="*/ 11160 h 438120"/>
                <a:gd name="textAreaBottom" fmla="*/ 426960 h 43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1292400" y="4898880"/>
              <a:ext cx="3704040" cy="1870200"/>
              <a:chOff x="1292400" y="4898880"/>
              <a:chExt cx="3704040" cy="1870200"/>
            </a:xfrm>
          </p:grpSpPr>
          <p:sp>
            <p:nvSpPr>
              <p:cNvPr id="411" name=""/>
              <p:cNvSpPr/>
              <p:nvPr/>
            </p:nvSpPr>
            <p:spPr>
              <a:xfrm>
                <a:off x="4094280" y="6237360"/>
                <a:ext cx="9021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 Narrow"/>
                  </a:rPr>
                  <a:t>IMU’s contain 3 gyros &amp; 3 accelerometer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2" name=""/>
              <p:cNvGrpSpPr/>
              <p:nvPr/>
            </p:nvGrpSpPr>
            <p:grpSpPr>
              <a:xfrm>
                <a:off x="1292400" y="4898880"/>
                <a:ext cx="2878560" cy="1870200"/>
                <a:chOff x="1292400" y="4898880"/>
                <a:chExt cx="2878560" cy="187020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2249640" y="4898880"/>
                  <a:ext cx="108792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 Narrow"/>
                    </a:rPr>
                    <a:t>BAE SYSTEMS capabilities in MicroElectroMechanical Systems (MEMS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4" name=""/>
                <p:cNvGrpSpPr/>
                <p:nvPr/>
              </p:nvGrpSpPr>
              <p:grpSpPr>
                <a:xfrm>
                  <a:off x="1292400" y="5610240"/>
                  <a:ext cx="2878560" cy="1158840"/>
                  <a:chOff x="1292400" y="5610240"/>
                  <a:chExt cx="2878560" cy="115884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>
                    <a:off x="1292400" y="5743440"/>
                    <a:ext cx="812880" cy="702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 Narrow"/>
                      </a:rPr>
                      <a:t>c. 1900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 Narrow"/>
                      </a:rPr>
                      <a:t>Physical principles of vibrating ring gyro established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2009160" y="5737320"/>
                    <a:ext cx="649080" cy="45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 Narrow"/>
                      </a:rPr>
                      <a:t>1970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 Narrow"/>
                      </a:rPr>
                      <a:t>Ceramic ring gyr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1708200" y="5848200"/>
                    <a:ext cx="3607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prstDash val="dash"/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2435040" y="5835600"/>
                    <a:ext cx="5000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921400" y="5610240"/>
                    <a:ext cx="1249560" cy="1158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 Narrow"/>
                      </a:rPr>
                      <a:t>1990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 Narrow"/>
                      </a:rPr>
                      <a:t>R&amp;T programme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 Narrow"/>
                      </a:rPr>
                      <a:t> 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 Narrow"/>
                      </a:rPr>
                      <a:t>to develop silicon gyro starts, for low cost rugged Inertial Measurement Unit (IMU) for missile applicat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4221000"/>
            <a:ext cx="9906120" cy="1224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3213000" y="4530600"/>
            <a:ext cx="2452320" cy="1538640"/>
            <a:chOff x="3213000" y="4530600"/>
            <a:chExt cx="2452320" cy="1538640"/>
          </a:xfrm>
        </p:grpSpPr>
        <p:sp>
          <p:nvSpPr>
            <p:cNvPr id="422" name=""/>
            <p:cNvSpPr/>
            <p:nvPr/>
          </p:nvSpPr>
          <p:spPr>
            <a:xfrm>
              <a:off x="4762800" y="5610240"/>
              <a:ext cx="902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199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Proof of princip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(TRL4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3213000" y="4530600"/>
              <a:ext cx="1841400" cy="1486800"/>
              <a:chOff x="3213000" y="4530600"/>
              <a:chExt cx="1841400" cy="1486800"/>
            </a:xfrm>
          </p:grpSpPr>
          <p:sp>
            <p:nvSpPr>
              <p:cNvPr id="424" name=""/>
              <p:cNvSpPr/>
              <p:nvPr/>
            </p:nvSpPr>
            <p:spPr>
              <a:xfrm flipV="1">
                <a:off x="3832200" y="5848200"/>
                <a:ext cx="94896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897360" y="5680080"/>
                <a:ext cx="827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 Narrow"/>
                  </a:rPr>
                  <a:t>Approx. £xM R&amp;T program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213000" y="4530600"/>
                <a:ext cx="184140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 Narrow"/>
                  </a:rPr>
                  <a:t>Long gestation - lots of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patience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 Narrow"/>
                  </a:rPr>
                  <a:t> &amp; support from customer who could see potentia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272480" y="4838760"/>
                <a:ext cx="0" cy="8506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8" name=""/>
          <p:cNvSpPr/>
          <p:nvPr/>
        </p:nvSpPr>
        <p:spPr>
          <a:xfrm>
            <a:off x="5248440" y="-19080"/>
            <a:ext cx="80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 Narrow"/>
              </a:rPr>
              <a:t>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006720" y="-19080"/>
            <a:ext cx="8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 Narrow"/>
              </a:rPr>
              <a:t>199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211560" y="189000"/>
            <a:ext cx="19749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Internal need and need for IMU’s in other sector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F1 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Stabilised binocul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Model helicop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-14400" y="4815000"/>
            <a:ext cx="9906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0520" y="173160"/>
            <a:ext cx="10530000" cy="66340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1387080" y="149400"/>
            <a:ext cx="9720" cy="6669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0520" y="1312920"/>
            <a:ext cx="10530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3760" y="4191120"/>
            <a:ext cx="105267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3760" y="4927680"/>
            <a:ext cx="105267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186840" y="1309680"/>
            <a:ext cx="1800" cy="5519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240" y="241200"/>
            <a:ext cx="935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Market &amp; Busin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Trends &amp; Driv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Soc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Technologic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Environmen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Politic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ustome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ompeti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BAE SYSTE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rot="16200000">
            <a:off x="-285120" y="2594520"/>
            <a:ext cx="76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Value Stre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16200000">
            <a:off x="-475560" y="5784480"/>
            <a:ext cx="115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Technology Capab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87200" y="2664000"/>
            <a:ext cx="10363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0440" y="2978280"/>
            <a:ext cx="10360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85760" y="3417840"/>
            <a:ext cx="10364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93680" y="3679920"/>
            <a:ext cx="10356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3680" y="5448240"/>
            <a:ext cx="10356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21760" y="1724040"/>
            <a:ext cx="109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Products &amp; Sub-syste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98720" y="2332080"/>
            <a:ext cx="50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Ser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17800" y="2736720"/>
            <a:ext cx="913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Business / Fac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09160" y="311616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Technology / I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19240" y="3444840"/>
            <a:ext cx="98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Cost / Risk Redu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12040" y="3848040"/>
            <a:ext cx="83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Strategic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0320" y="4254480"/>
            <a:ext cx="907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Non-techni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Enablers / Barri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omplimentary actions /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 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syste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Risk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3560" y="4930920"/>
            <a:ext cx="103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Technology lev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Enablers / Barri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omplementary technologi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Risk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12760" y="5923080"/>
            <a:ext cx="858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R &amp; T Program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Mileston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Invest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apabilities (technica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1292400" y="4898880"/>
            <a:ext cx="3704040" cy="1870200"/>
            <a:chOff x="1292400" y="4898880"/>
            <a:chExt cx="3704040" cy="1870200"/>
          </a:xfrm>
        </p:grpSpPr>
        <p:sp>
          <p:nvSpPr>
            <p:cNvPr id="456" name=""/>
            <p:cNvSpPr/>
            <p:nvPr/>
          </p:nvSpPr>
          <p:spPr>
            <a:xfrm>
              <a:off x="3195360" y="5353200"/>
              <a:ext cx="173880" cy="253800"/>
            </a:xfrm>
            <a:custGeom>
              <a:avLst/>
              <a:gdLst/>
              <a:ahLst/>
              <a:rect l="l" t="t" r="r" b="b"/>
              <a:pathLst>
                <a:path w="160" h="420">
                  <a:moveTo>
                    <a:pt x="0" y="4"/>
                  </a:moveTo>
                  <a:cubicBezTo>
                    <a:pt x="53" y="2"/>
                    <a:pt x="106" y="1"/>
                    <a:pt x="160" y="0"/>
                  </a:cubicBezTo>
                  <a:lnTo>
                    <a:pt x="160" y="420"/>
                  </a:lnTo>
                </a:path>
              </a:pathLst>
            </a:custGeom>
            <a:noFill/>
            <a:ln w="6480">
              <a:solidFill>
                <a:srgbClr val="80808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082760" y="6299280"/>
              <a:ext cx="89280" cy="438120"/>
            </a:xfrm>
            <a:custGeom>
              <a:avLst/>
              <a:gdLst>
                <a:gd name="textAreaLeft" fmla="*/ 0 w 89280"/>
                <a:gd name="textAreaRight" fmla="*/ 32040 w 89280"/>
                <a:gd name="textAreaTop" fmla="*/ 11160 h 438120"/>
                <a:gd name="textAreaBottom" fmla="*/ 426960 h 43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1292400" y="4898880"/>
              <a:ext cx="3704040" cy="1870200"/>
              <a:chOff x="1292400" y="4898880"/>
              <a:chExt cx="3704040" cy="1870200"/>
            </a:xfrm>
          </p:grpSpPr>
          <p:sp>
            <p:nvSpPr>
              <p:cNvPr id="459" name=""/>
              <p:cNvSpPr/>
              <p:nvPr/>
            </p:nvSpPr>
            <p:spPr>
              <a:xfrm>
                <a:off x="4094280" y="6237360"/>
                <a:ext cx="9021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808080"/>
                    </a:solidFill>
                    <a:latin typeface="Arial Narrow"/>
                  </a:rPr>
                  <a:t>IMU’s contain 3 gyros &amp; 3 accelerometer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0" name=""/>
              <p:cNvGrpSpPr/>
              <p:nvPr/>
            </p:nvGrpSpPr>
            <p:grpSpPr>
              <a:xfrm>
                <a:off x="1292400" y="4898880"/>
                <a:ext cx="2878560" cy="1870200"/>
                <a:chOff x="1292400" y="4898880"/>
                <a:chExt cx="2878560" cy="187020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2249640" y="4898880"/>
                  <a:ext cx="108792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808080"/>
                      </a:solidFill>
                      <a:latin typeface="Arial Narrow"/>
                    </a:rPr>
                    <a:t>BAE SYSTEMS capabilities in MicroElectroMechanical Systems (MEMS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2" name=""/>
                <p:cNvGrpSpPr/>
                <p:nvPr/>
              </p:nvGrpSpPr>
              <p:grpSpPr>
                <a:xfrm>
                  <a:off x="1292400" y="5610240"/>
                  <a:ext cx="2878560" cy="1158840"/>
                  <a:chOff x="1292400" y="5610240"/>
                  <a:chExt cx="2878560" cy="1158840"/>
                </a:xfrm>
              </p:grpSpPr>
              <p:sp>
                <p:nvSpPr>
                  <p:cNvPr id="463" name=""/>
                  <p:cNvSpPr/>
                  <p:nvPr/>
                </p:nvSpPr>
                <p:spPr>
                  <a:xfrm>
                    <a:off x="1292400" y="5743440"/>
                    <a:ext cx="812880" cy="702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c. 1900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Physical principles of vibrating ring gyro established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2009160" y="5737320"/>
                    <a:ext cx="649080" cy="45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1970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Ceramic ring gyr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1708200" y="5848200"/>
                    <a:ext cx="360720" cy="0"/>
                  </a:xfrm>
                  <a:prstGeom prst="line">
                    <a:avLst/>
                  </a:prstGeom>
                  <a:ln w="6480">
                    <a:solidFill>
                      <a:srgbClr val="808080"/>
                    </a:solidFill>
                    <a:prstDash val="dash"/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2435040" y="5835600"/>
                    <a:ext cx="500040" cy="0"/>
                  </a:xfrm>
                  <a:prstGeom prst="line">
                    <a:avLst/>
                  </a:prstGeom>
                  <a:ln w="6480">
                    <a:solidFill>
                      <a:srgbClr val="80808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2921400" y="5610240"/>
                    <a:ext cx="1249560" cy="1158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1990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808080"/>
                        </a:solidFill>
                        <a:latin typeface="Arial Narrow"/>
                      </a:rPr>
                      <a:t>R&amp;T programme</a:t>
                    </a:r>
                    <a:r>
                      <a:rPr b="1" lang="en-US" sz="1600" spc="-1" strike="noStrike">
                        <a:solidFill>
                          <a:srgbClr val="808080"/>
                        </a:solidFill>
                        <a:latin typeface="Arial Narrow"/>
                      </a:rPr>
                      <a:t> </a:t>
                    </a: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to develop silicon gyro starts, for low cost rugged Inertial Measurement Unit (IMU) for missile applicat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0" y="4221000"/>
            <a:ext cx="9906120" cy="1224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3213000" y="4530600"/>
            <a:ext cx="2452320" cy="1538640"/>
            <a:chOff x="3213000" y="4530600"/>
            <a:chExt cx="2452320" cy="1538640"/>
          </a:xfrm>
        </p:grpSpPr>
        <p:sp>
          <p:nvSpPr>
            <p:cNvPr id="470" name=""/>
            <p:cNvSpPr/>
            <p:nvPr/>
          </p:nvSpPr>
          <p:spPr>
            <a:xfrm>
              <a:off x="4762800" y="5610240"/>
              <a:ext cx="902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Narrow"/>
                </a:rPr>
                <a:t>199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Narrow"/>
                </a:rPr>
                <a:t>Proof of princip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Narrow"/>
                </a:rPr>
                <a:t>(TRL4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3213000" y="4530600"/>
              <a:ext cx="1841400" cy="1486800"/>
              <a:chOff x="3213000" y="4530600"/>
              <a:chExt cx="1841400" cy="1486800"/>
            </a:xfrm>
          </p:grpSpPr>
          <p:sp>
            <p:nvSpPr>
              <p:cNvPr id="472" name=""/>
              <p:cNvSpPr/>
              <p:nvPr/>
            </p:nvSpPr>
            <p:spPr>
              <a:xfrm flipV="1">
                <a:off x="3832200" y="5848200"/>
                <a:ext cx="948960" cy="12960"/>
              </a:xfrm>
              <a:prstGeom prst="line">
                <a:avLst/>
              </a:prstGeom>
              <a:ln w="6480">
                <a:solidFill>
                  <a:srgbClr val="80808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897360" y="5680080"/>
                <a:ext cx="827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808080"/>
                    </a:solidFill>
                    <a:latin typeface="Arial Narrow"/>
                  </a:rPr>
                  <a:t>Approx. £xM R&amp;T program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213000" y="4530600"/>
                <a:ext cx="1841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808080"/>
                    </a:solidFill>
                    <a:latin typeface="Arial Narrow"/>
                  </a:rPr>
                  <a:t>Long gestation - lots of patience &amp; support from customer who could see potentia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272480" y="4838760"/>
                <a:ext cx="0" cy="850680"/>
              </a:xfrm>
              <a:prstGeom prst="line">
                <a:avLst/>
              </a:prstGeom>
              <a:ln w="6480">
                <a:solidFill>
                  <a:srgbClr val="808080"/>
                </a:solidFill>
                <a:prstDash val="dash"/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6" name=""/>
          <p:cNvSpPr/>
          <p:nvPr/>
        </p:nvSpPr>
        <p:spPr>
          <a:xfrm>
            <a:off x="5248440" y="-19080"/>
            <a:ext cx="80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 Narrow"/>
              </a:rPr>
              <a:t>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006720" y="-19080"/>
            <a:ext cx="8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 Narrow"/>
              </a:rPr>
              <a:t>199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211560" y="189000"/>
            <a:ext cx="19749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Internal need and need for IMU’s in other sector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F1 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Stabilised binocul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Model helicop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-14400" y="4815000"/>
            <a:ext cx="9906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0520" y="173160"/>
            <a:ext cx="10530000" cy="66340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1387080" y="149400"/>
            <a:ext cx="9720" cy="6669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0520" y="1312920"/>
            <a:ext cx="10530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3760" y="4191120"/>
            <a:ext cx="105267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3760" y="4927680"/>
            <a:ext cx="105267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186840" y="1309680"/>
            <a:ext cx="1800" cy="5519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1240" y="241200"/>
            <a:ext cx="935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Market &amp; Busin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Trends &amp; Driv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Soc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Technologic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Environmen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Politic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ustome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ompeti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BAE SYSTE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rot="16200000">
            <a:off x="-285120" y="2594520"/>
            <a:ext cx="76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Value Stre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rot="16200000">
            <a:off x="-475560" y="5784480"/>
            <a:ext cx="115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Technology Capab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87200" y="2664000"/>
            <a:ext cx="10363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90440" y="2978280"/>
            <a:ext cx="10360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85760" y="3417840"/>
            <a:ext cx="10364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93680" y="3679920"/>
            <a:ext cx="10356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93680" y="5448240"/>
            <a:ext cx="10356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21760" y="1724040"/>
            <a:ext cx="109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Products &amp; Sub-syste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98720" y="2332080"/>
            <a:ext cx="50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Ser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17800" y="2736720"/>
            <a:ext cx="913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Business / Fac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09160" y="311616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Technology / I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19240" y="3444840"/>
            <a:ext cx="98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Cost / Risk Redu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12040" y="3848040"/>
            <a:ext cx="83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Strategic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20320" y="4254480"/>
            <a:ext cx="907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Non-techni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Enablers / Barri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omplimentary actions /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 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syste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Risk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23560" y="4930920"/>
            <a:ext cx="103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Technology lev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Enablers / Barri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omplementary technologi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Risk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12760" y="5923080"/>
            <a:ext cx="858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R &amp; T Program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Mileston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Invest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apabilities (technica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1292400" y="4898880"/>
            <a:ext cx="3704040" cy="1870200"/>
            <a:chOff x="1292400" y="4898880"/>
            <a:chExt cx="3704040" cy="1870200"/>
          </a:xfrm>
        </p:grpSpPr>
        <p:sp>
          <p:nvSpPr>
            <p:cNvPr id="504" name=""/>
            <p:cNvSpPr/>
            <p:nvPr/>
          </p:nvSpPr>
          <p:spPr>
            <a:xfrm>
              <a:off x="3195360" y="5353200"/>
              <a:ext cx="173880" cy="253800"/>
            </a:xfrm>
            <a:custGeom>
              <a:avLst/>
              <a:gdLst/>
              <a:ahLst/>
              <a:rect l="l" t="t" r="r" b="b"/>
              <a:pathLst>
                <a:path w="160" h="420">
                  <a:moveTo>
                    <a:pt x="0" y="4"/>
                  </a:moveTo>
                  <a:cubicBezTo>
                    <a:pt x="53" y="2"/>
                    <a:pt x="106" y="1"/>
                    <a:pt x="160" y="0"/>
                  </a:cubicBezTo>
                  <a:lnTo>
                    <a:pt x="160" y="420"/>
                  </a:lnTo>
                </a:path>
              </a:pathLst>
            </a:custGeom>
            <a:noFill/>
            <a:ln w="6480">
              <a:solidFill>
                <a:srgbClr val="80808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082760" y="6299280"/>
              <a:ext cx="89280" cy="438120"/>
            </a:xfrm>
            <a:custGeom>
              <a:avLst/>
              <a:gdLst>
                <a:gd name="textAreaLeft" fmla="*/ 0 w 89280"/>
                <a:gd name="textAreaRight" fmla="*/ 32040 w 89280"/>
                <a:gd name="textAreaTop" fmla="*/ 11160 h 438120"/>
                <a:gd name="textAreaBottom" fmla="*/ 426960 h 43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"/>
            <p:cNvGrpSpPr/>
            <p:nvPr/>
          </p:nvGrpSpPr>
          <p:grpSpPr>
            <a:xfrm>
              <a:off x="1292400" y="4898880"/>
              <a:ext cx="3704040" cy="1870200"/>
              <a:chOff x="1292400" y="4898880"/>
              <a:chExt cx="3704040" cy="1870200"/>
            </a:xfrm>
          </p:grpSpPr>
          <p:sp>
            <p:nvSpPr>
              <p:cNvPr id="507" name=""/>
              <p:cNvSpPr/>
              <p:nvPr/>
            </p:nvSpPr>
            <p:spPr>
              <a:xfrm>
                <a:off x="4094280" y="6237360"/>
                <a:ext cx="9021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808080"/>
                    </a:solidFill>
                    <a:latin typeface="Arial Narrow"/>
                  </a:rPr>
                  <a:t>IMU’s contain 3 gyros &amp; 3 accelerometer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8" name=""/>
              <p:cNvGrpSpPr/>
              <p:nvPr/>
            </p:nvGrpSpPr>
            <p:grpSpPr>
              <a:xfrm>
                <a:off x="1292400" y="4898880"/>
                <a:ext cx="2878560" cy="1870200"/>
                <a:chOff x="1292400" y="4898880"/>
                <a:chExt cx="2878560" cy="187020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2249640" y="4898880"/>
                  <a:ext cx="108792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808080"/>
                      </a:solidFill>
                      <a:latin typeface="Arial Narrow"/>
                    </a:rPr>
                    <a:t>BAE SYSTEMS capabilities in MicroElectroMechanical Systems (MEMS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0" name=""/>
                <p:cNvGrpSpPr/>
                <p:nvPr/>
              </p:nvGrpSpPr>
              <p:grpSpPr>
                <a:xfrm>
                  <a:off x="1292400" y="5610240"/>
                  <a:ext cx="2878560" cy="1158840"/>
                  <a:chOff x="1292400" y="5610240"/>
                  <a:chExt cx="2878560" cy="1158840"/>
                </a:xfrm>
              </p:grpSpPr>
              <p:sp>
                <p:nvSpPr>
                  <p:cNvPr id="511" name=""/>
                  <p:cNvSpPr/>
                  <p:nvPr/>
                </p:nvSpPr>
                <p:spPr>
                  <a:xfrm>
                    <a:off x="1292400" y="5743440"/>
                    <a:ext cx="812880" cy="702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c. 1900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Physical principles of vibrating ring gyro established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2009160" y="5737320"/>
                    <a:ext cx="649080" cy="45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1970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Ceramic ring gyr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1708200" y="5848200"/>
                    <a:ext cx="360720" cy="0"/>
                  </a:xfrm>
                  <a:prstGeom prst="line">
                    <a:avLst/>
                  </a:prstGeom>
                  <a:ln w="6480">
                    <a:solidFill>
                      <a:srgbClr val="808080"/>
                    </a:solidFill>
                    <a:prstDash val="dash"/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2435040" y="5835600"/>
                    <a:ext cx="500040" cy="0"/>
                  </a:xfrm>
                  <a:prstGeom prst="line">
                    <a:avLst/>
                  </a:prstGeom>
                  <a:ln w="6480">
                    <a:solidFill>
                      <a:srgbClr val="80808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2921400" y="5610240"/>
                    <a:ext cx="1249560" cy="1158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1990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808080"/>
                        </a:solidFill>
                        <a:latin typeface="Arial Narrow"/>
                      </a:rPr>
                      <a:t>R&amp;T programme</a:t>
                    </a:r>
                    <a:r>
                      <a:rPr b="1" lang="en-US" sz="1600" spc="-1" strike="noStrike">
                        <a:solidFill>
                          <a:srgbClr val="808080"/>
                        </a:solidFill>
                        <a:latin typeface="Arial Narrow"/>
                      </a:rPr>
                      <a:t> </a:t>
                    </a: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to develop silicon gyro starts, for low cost rugged Inertial Measurement Unit (IMU) for missile applicat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516" name=""/>
          <p:cNvGrpSpPr/>
          <p:nvPr/>
        </p:nvGrpSpPr>
        <p:grpSpPr>
          <a:xfrm>
            <a:off x="2208240" y="1268280"/>
            <a:ext cx="6487560" cy="4509720"/>
            <a:chOff x="2208240" y="1268280"/>
            <a:chExt cx="6487560" cy="4509720"/>
          </a:xfrm>
        </p:grpSpPr>
        <p:sp>
          <p:nvSpPr>
            <p:cNvPr id="517" name=""/>
            <p:cNvSpPr/>
            <p:nvPr/>
          </p:nvSpPr>
          <p:spPr>
            <a:xfrm>
              <a:off x="2208240" y="4175280"/>
              <a:ext cx="203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Sumitomo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 - long term supplier of acceleromete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125240" y="4280040"/>
              <a:ext cx="101592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091840" y="4175280"/>
              <a:ext cx="32259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Joint Venture with Sumitomo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, to leverage their high volume low cost manufacturing capabilities (and £xM capital plant)… automotive ‘route to market’ identified, as a means to reduce cost of gy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5320440" y="4803480"/>
              <a:ext cx="0" cy="974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808960" y="4635360"/>
              <a:ext cx="28868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olitical constraints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 in Japan mean that ‘specials’ for military application must be manufacturing in U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248080" y="1268280"/>
              <a:ext cx="80100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2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Automotive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application (2nd generation ABS) - high volume, low pri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 flipV="1">
              <a:off x="5440320" y="2590560"/>
              <a:ext cx="10440" cy="1638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0" y="4221000"/>
            <a:ext cx="9906120" cy="1224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3213000" y="4530600"/>
            <a:ext cx="2452320" cy="1538640"/>
            <a:chOff x="3213000" y="4530600"/>
            <a:chExt cx="2452320" cy="1538640"/>
          </a:xfrm>
        </p:grpSpPr>
        <p:sp>
          <p:nvSpPr>
            <p:cNvPr id="526" name=""/>
            <p:cNvSpPr/>
            <p:nvPr/>
          </p:nvSpPr>
          <p:spPr>
            <a:xfrm>
              <a:off x="4762800" y="5610240"/>
              <a:ext cx="902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Narrow"/>
                </a:rPr>
                <a:t>199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Narrow"/>
                </a:rPr>
                <a:t>Proof of princip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Narrow"/>
                </a:rPr>
                <a:t>(TRL4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3213000" y="4530600"/>
              <a:ext cx="1841400" cy="1486800"/>
              <a:chOff x="3213000" y="4530600"/>
              <a:chExt cx="1841400" cy="1486800"/>
            </a:xfrm>
          </p:grpSpPr>
          <p:sp>
            <p:nvSpPr>
              <p:cNvPr id="528" name=""/>
              <p:cNvSpPr/>
              <p:nvPr/>
            </p:nvSpPr>
            <p:spPr>
              <a:xfrm flipV="1">
                <a:off x="3832200" y="5848200"/>
                <a:ext cx="948960" cy="12960"/>
              </a:xfrm>
              <a:prstGeom prst="line">
                <a:avLst/>
              </a:prstGeom>
              <a:ln w="6480">
                <a:solidFill>
                  <a:srgbClr val="80808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897360" y="5680080"/>
                <a:ext cx="827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808080"/>
                    </a:solidFill>
                    <a:latin typeface="Arial Narrow"/>
                  </a:rPr>
                  <a:t>Approx. £xM R&amp;T program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213000" y="4530600"/>
                <a:ext cx="1841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808080"/>
                    </a:solidFill>
                    <a:latin typeface="Arial Narrow"/>
                  </a:rPr>
                  <a:t>Long gestation - lots of patience &amp; support from customer who could see potentia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272480" y="4838760"/>
                <a:ext cx="0" cy="850680"/>
              </a:xfrm>
              <a:prstGeom prst="line">
                <a:avLst/>
              </a:prstGeom>
              <a:ln w="6480">
                <a:solidFill>
                  <a:srgbClr val="808080"/>
                </a:solidFill>
                <a:prstDash val="dash"/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2" name=""/>
          <p:cNvSpPr/>
          <p:nvPr/>
        </p:nvSpPr>
        <p:spPr>
          <a:xfrm>
            <a:off x="5248440" y="-19080"/>
            <a:ext cx="80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 Narrow"/>
              </a:rPr>
              <a:t>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006720" y="-19080"/>
            <a:ext cx="8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 Narrow"/>
              </a:rPr>
              <a:t>199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211560" y="189000"/>
            <a:ext cx="19749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Internal need and need for IMU’s in other sector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F1 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Stabilised binocul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Model helicop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-14400" y="4815000"/>
            <a:ext cx="9906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0520" y="173160"/>
            <a:ext cx="10530000" cy="66340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1387080" y="149400"/>
            <a:ext cx="9720" cy="6669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0520" y="1312920"/>
            <a:ext cx="10530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3760" y="4191120"/>
            <a:ext cx="105267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3760" y="4927680"/>
            <a:ext cx="105267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186840" y="1309680"/>
            <a:ext cx="1800" cy="5519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1240" y="241200"/>
            <a:ext cx="935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Market &amp; Busin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Trends &amp; Driv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Soc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Technologic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Environmen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Politic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ustome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ompeti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BAE SYSTE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rot="16200000">
            <a:off x="-285120" y="2594520"/>
            <a:ext cx="76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Value Stre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rot="16200000">
            <a:off x="-475560" y="5784480"/>
            <a:ext cx="115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Technology Capab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87200" y="2664000"/>
            <a:ext cx="10363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90440" y="2978280"/>
            <a:ext cx="10360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85760" y="3417840"/>
            <a:ext cx="10364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93680" y="3679920"/>
            <a:ext cx="10356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3680" y="5448240"/>
            <a:ext cx="10356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21760" y="1724040"/>
            <a:ext cx="109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Products &amp; Sub-syste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98720" y="2332080"/>
            <a:ext cx="50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Ser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17800" y="2736720"/>
            <a:ext cx="913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Business / Fac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09160" y="311616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Technology / I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19240" y="3444840"/>
            <a:ext cx="98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Cost / Risk Redu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12040" y="3848040"/>
            <a:ext cx="83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Strategic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0320" y="4254480"/>
            <a:ext cx="907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Non-techni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Enablers / Barri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omplimentary actions /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 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syste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Risk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23560" y="4930920"/>
            <a:ext cx="103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Technology lev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Enablers / Barri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omplementary technologi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Risk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12760" y="5923080"/>
            <a:ext cx="858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R &amp; T Program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Mileston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Invest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apabilities (technica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1292400" y="4898880"/>
            <a:ext cx="3704040" cy="1870200"/>
            <a:chOff x="1292400" y="4898880"/>
            <a:chExt cx="3704040" cy="1870200"/>
          </a:xfrm>
        </p:grpSpPr>
        <p:sp>
          <p:nvSpPr>
            <p:cNvPr id="560" name=""/>
            <p:cNvSpPr/>
            <p:nvPr/>
          </p:nvSpPr>
          <p:spPr>
            <a:xfrm>
              <a:off x="3195360" y="5353200"/>
              <a:ext cx="173880" cy="253800"/>
            </a:xfrm>
            <a:custGeom>
              <a:avLst/>
              <a:gdLst/>
              <a:ahLst/>
              <a:rect l="l" t="t" r="r" b="b"/>
              <a:pathLst>
                <a:path w="160" h="420">
                  <a:moveTo>
                    <a:pt x="0" y="4"/>
                  </a:moveTo>
                  <a:cubicBezTo>
                    <a:pt x="53" y="2"/>
                    <a:pt x="106" y="1"/>
                    <a:pt x="160" y="0"/>
                  </a:cubicBezTo>
                  <a:lnTo>
                    <a:pt x="160" y="420"/>
                  </a:lnTo>
                </a:path>
              </a:pathLst>
            </a:custGeom>
            <a:noFill/>
            <a:ln w="6480">
              <a:solidFill>
                <a:srgbClr val="80808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082760" y="6299280"/>
              <a:ext cx="89280" cy="438120"/>
            </a:xfrm>
            <a:custGeom>
              <a:avLst/>
              <a:gdLst>
                <a:gd name="textAreaLeft" fmla="*/ 0 w 89280"/>
                <a:gd name="textAreaRight" fmla="*/ 32040 w 89280"/>
                <a:gd name="textAreaTop" fmla="*/ 11160 h 438120"/>
                <a:gd name="textAreaBottom" fmla="*/ 426960 h 43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2" name=""/>
            <p:cNvGrpSpPr/>
            <p:nvPr/>
          </p:nvGrpSpPr>
          <p:grpSpPr>
            <a:xfrm>
              <a:off x="1292400" y="4898880"/>
              <a:ext cx="3704040" cy="1870200"/>
              <a:chOff x="1292400" y="4898880"/>
              <a:chExt cx="3704040" cy="1870200"/>
            </a:xfrm>
          </p:grpSpPr>
          <p:sp>
            <p:nvSpPr>
              <p:cNvPr id="563" name=""/>
              <p:cNvSpPr/>
              <p:nvPr/>
            </p:nvSpPr>
            <p:spPr>
              <a:xfrm>
                <a:off x="4094280" y="6237360"/>
                <a:ext cx="9021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808080"/>
                    </a:solidFill>
                    <a:latin typeface="Arial Narrow"/>
                  </a:rPr>
                  <a:t>IMU’s contain 3 gyros &amp; 3 accelerometer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4" name=""/>
              <p:cNvGrpSpPr/>
              <p:nvPr/>
            </p:nvGrpSpPr>
            <p:grpSpPr>
              <a:xfrm>
                <a:off x="1292400" y="4898880"/>
                <a:ext cx="2878560" cy="1870200"/>
                <a:chOff x="1292400" y="4898880"/>
                <a:chExt cx="2878560" cy="187020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2249640" y="4898880"/>
                  <a:ext cx="108792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808080"/>
                      </a:solidFill>
                      <a:latin typeface="Arial Narrow"/>
                    </a:rPr>
                    <a:t>BAE SYSTEMS capabilities in MicroElectroMechanical Systems (MEMS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6" name=""/>
                <p:cNvGrpSpPr/>
                <p:nvPr/>
              </p:nvGrpSpPr>
              <p:grpSpPr>
                <a:xfrm>
                  <a:off x="1292400" y="5610240"/>
                  <a:ext cx="2878560" cy="1158840"/>
                  <a:chOff x="1292400" y="5610240"/>
                  <a:chExt cx="2878560" cy="1158840"/>
                </a:xfrm>
              </p:grpSpPr>
              <p:sp>
                <p:nvSpPr>
                  <p:cNvPr id="567" name=""/>
                  <p:cNvSpPr/>
                  <p:nvPr/>
                </p:nvSpPr>
                <p:spPr>
                  <a:xfrm>
                    <a:off x="1292400" y="5743440"/>
                    <a:ext cx="812880" cy="702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c. 1900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Physical principles of vibrating ring gyro established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2009160" y="5737320"/>
                    <a:ext cx="649080" cy="45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1970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Ceramic ring gyr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1708200" y="5848200"/>
                    <a:ext cx="360720" cy="0"/>
                  </a:xfrm>
                  <a:prstGeom prst="line">
                    <a:avLst/>
                  </a:prstGeom>
                  <a:ln w="6480">
                    <a:solidFill>
                      <a:srgbClr val="808080"/>
                    </a:solidFill>
                    <a:prstDash val="dash"/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2435040" y="5835600"/>
                    <a:ext cx="500040" cy="0"/>
                  </a:xfrm>
                  <a:prstGeom prst="line">
                    <a:avLst/>
                  </a:prstGeom>
                  <a:ln w="6480">
                    <a:solidFill>
                      <a:srgbClr val="80808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2921400" y="5610240"/>
                    <a:ext cx="1249560" cy="1158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1990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808080"/>
                        </a:solidFill>
                        <a:latin typeface="Arial Narrow"/>
                      </a:rPr>
                      <a:t>R&amp;T programme</a:t>
                    </a:r>
                    <a:r>
                      <a:rPr b="1" lang="en-US" sz="1600" spc="-1" strike="noStrike">
                        <a:solidFill>
                          <a:srgbClr val="808080"/>
                        </a:solidFill>
                        <a:latin typeface="Arial Narrow"/>
                      </a:rPr>
                      <a:t> </a:t>
                    </a: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to develop silicon gyro starts, for low cost rugged Inertial Measurement Unit (IMU) for missile applicat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572" name=""/>
          <p:cNvGrpSpPr/>
          <p:nvPr/>
        </p:nvGrpSpPr>
        <p:grpSpPr>
          <a:xfrm>
            <a:off x="2208240" y="1268280"/>
            <a:ext cx="6487560" cy="4509720"/>
            <a:chOff x="2208240" y="1268280"/>
            <a:chExt cx="6487560" cy="4509720"/>
          </a:xfrm>
        </p:grpSpPr>
        <p:sp>
          <p:nvSpPr>
            <p:cNvPr id="573" name=""/>
            <p:cNvSpPr/>
            <p:nvPr/>
          </p:nvSpPr>
          <p:spPr>
            <a:xfrm>
              <a:off x="2208240" y="4175280"/>
              <a:ext cx="203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Arial Narrow"/>
                </a:rPr>
                <a:t>Sumitomo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 Narrow"/>
                </a:rPr>
                <a:t> - long term supplier of acceleromete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25240" y="4280040"/>
              <a:ext cx="1015920" cy="0"/>
            </a:xfrm>
            <a:prstGeom prst="line">
              <a:avLst/>
            </a:prstGeom>
            <a:ln w="6480">
              <a:solidFill>
                <a:srgbClr val="80808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91840" y="4175280"/>
              <a:ext cx="32259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808080"/>
                  </a:solidFill>
                  <a:latin typeface="Arial Narrow"/>
                </a:rPr>
                <a:t>Joint Venture with Sumitomo</a:t>
              </a:r>
              <a:r>
                <a:rPr b="0" lang="en-GB" sz="800" spc="-1" strike="noStrike">
                  <a:solidFill>
                    <a:srgbClr val="808080"/>
                  </a:solidFill>
                  <a:latin typeface="Arial Narrow"/>
                </a:rPr>
                <a:t>, to leverage their high volume low cost manufacturing capabilities (and £xM capital plant)… automotive ‘route to market’ identified, as a means to reduce cost of gy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5320440" y="4803480"/>
              <a:ext cx="0" cy="974520"/>
            </a:xfrm>
            <a:prstGeom prst="line">
              <a:avLst/>
            </a:prstGeom>
            <a:ln w="648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808960" y="4635360"/>
              <a:ext cx="28868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Arial Narrow"/>
                </a:rPr>
                <a:t>Political constraints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 Narrow"/>
                </a:rPr>
                <a:t> in Japan mean that ‘specials’ for military application must be manufacturing in U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248080" y="1268280"/>
              <a:ext cx="80100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Narrow"/>
                </a:rPr>
                <a:t>2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Arial Narrow"/>
                </a:rPr>
                <a:t>Automotive 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 Narrow"/>
                </a:rPr>
                <a:t>application (2nd generation ABS) - high volume, low pri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 flipV="1">
              <a:off x="5440320" y="2590560"/>
              <a:ext cx="10440" cy="1638360"/>
            </a:xfrm>
            <a:prstGeom prst="line">
              <a:avLst/>
            </a:prstGeom>
            <a:ln w="648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5734080" y="1268280"/>
            <a:ext cx="3742920" cy="2927160"/>
            <a:chOff x="5734080" y="1268280"/>
            <a:chExt cx="3742920" cy="2927160"/>
          </a:xfrm>
        </p:grpSpPr>
        <p:grpSp>
          <p:nvGrpSpPr>
            <p:cNvPr id="581" name=""/>
            <p:cNvGrpSpPr/>
            <p:nvPr/>
          </p:nvGrpSpPr>
          <p:grpSpPr>
            <a:xfrm>
              <a:off x="5734080" y="1268280"/>
              <a:ext cx="2676600" cy="2927160"/>
              <a:chOff x="5734080" y="1268280"/>
              <a:chExt cx="2676600" cy="2927160"/>
            </a:xfrm>
          </p:grpSpPr>
          <p:sp>
            <p:nvSpPr>
              <p:cNvPr id="582" name=""/>
              <p:cNvSpPr/>
              <p:nvPr/>
            </p:nvSpPr>
            <p:spPr>
              <a:xfrm>
                <a:off x="5998680" y="1268280"/>
                <a:ext cx="801000" cy="115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Sea-wolf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 Narrow"/>
                  </a:rPr>
                  <a:t>missile applica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 Narrow"/>
                  </a:rPr>
                  <a:t>(10x smaller, lighter &amp; cheaper than previous technology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734080" y="1413000"/>
                <a:ext cx="3214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199920" y="3645000"/>
                <a:ext cx="195120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 Narrow"/>
                  </a:rPr>
                  <a:t>BAE SYSTEMS lead in inertial navigation (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bargaining chip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 Narrow"/>
                  </a:rPr>
                  <a:t> in partnerships &amp; mergers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356160" y="2637000"/>
                <a:ext cx="0" cy="9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765480" y="3089160"/>
                <a:ext cx="1645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 Narrow"/>
                  </a:rPr>
                  <a:t>Opportunities to licence technolog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811920" y="1365120"/>
                <a:ext cx="1105200" cy="97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 Narrow"/>
                  </a:rPr>
                  <a:t>Segway Human Transporter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 Narrow"/>
                  </a:rPr>
                  <a:t> (BAE has European Military rights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703560" y="1479600"/>
                <a:ext cx="1443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7955280" y="3933720"/>
              <a:ext cx="19584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197920" y="3736800"/>
              <a:ext cx="127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Move up ‘food chain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(heads to sub-systems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0" y="4221000"/>
            <a:ext cx="9906120" cy="1224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3213000" y="4530600"/>
            <a:ext cx="2452320" cy="1538640"/>
            <a:chOff x="3213000" y="4530600"/>
            <a:chExt cx="2452320" cy="1538640"/>
          </a:xfrm>
        </p:grpSpPr>
        <p:sp>
          <p:nvSpPr>
            <p:cNvPr id="593" name=""/>
            <p:cNvSpPr/>
            <p:nvPr/>
          </p:nvSpPr>
          <p:spPr>
            <a:xfrm>
              <a:off x="4762800" y="5610240"/>
              <a:ext cx="902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Narrow"/>
                </a:rPr>
                <a:t>199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Narrow"/>
                </a:rPr>
                <a:t>Proof of princip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Narrow"/>
                </a:rPr>
                <a:t>(TRL4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4" name=""/>
            <p:cNvGrpSpPr/>
            <p:nvPr/>
          </p:nvGrpSpPr>
          <p:grpSpPr>
            <a:xfrm>
              <a:off x="3213000" y="4530600"/>
              <a:ext cx="1841400" cy="1486800"/>
              <a:chOff x="3213000" y="4530600"/>
              <a:chExt cx="1841400" cy="1486800"/>
            </a:xfrm>
          </p:grpSpPr>
          <p:sp>
            <p:nvSpPr>
              <p:cNvPr id="595" name=""/>
              <p:cNvSpPr/>
              <p:nvPr/>
            </p:nvSpPr>
            <p:spPr>
              <a:xfrm flipV="1">
                <a:off x="3832200" y="5848200"/>
                <a:ext cx="948960" cy="12960"/>
              </a:xfrm>
              <a:prstGeom prst="line">
                <a:avLst/>
              </a:prstGeom>
              <a:ln w="6480">
                <a:solidFill>
                  <a:srgbClr val="80808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897360" y="5680080"/>
                <a:ext cx="827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808080"/>
                    </a:solidFill>
                    <a:latin typeface="Arial Narrow"/>
                  </a:rPr>
                  <a:t>Approx. £xM R&amp;T program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213000" y="4530600"/>
                <a:ext cx="1841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808080"/>
                    </a:solidFill>
                    <a:latin typeface="Arial Narrow"/>
                  </a:rPr>
                  <a:t>Long gestation - lots of patience &amp; support from customer who could see potentia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272480" y="4838760"/>
                <a:ext cx="0" cy="850680"/>
              </a:xfrm>
              <a:prstGeom prst="line">
                <a:avLst/>
              </a:prstGeom>
              <a:ln w="6480">
                <a:solidFill>
                  <a:srgbClr val="808080"/>
                </a:solidFill>
                <a:prstDash val="dash"/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9" name=""/>
          <p:cNvSpPr/>
          <p:nvPr/>
        </p:nvSpPr>
        <p:spPr>
          <a:xfrm>
            <a:off x="5248440" y="-19080"/>
            <a:ext cx="80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 Narrow"/>
              </a:rPr>
              <a:t>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006720" y="-19080"/>
            <a:ext cx="8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 Narrow"/>
              </a:rPr>
              <a:t>199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211560" y="189000"/>
            <a:ext cx="19749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Internal need and need for IMU’s in other sector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F1 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Stabilised binocul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Model helicop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-14400" y="4815000"/>
            <a:ext cx="9906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0520" y="173160"/>
            <a:ext cx="10530000" cy="66340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1387080" y="149400"/>
            <a:ext cx="9720" cy="6669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0520" y="1312920"/>
            <a:ext cx="10530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3760" y="4191120"/>
            <a:ext cx="105267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3760" y="4927680"/>
            <a:ext cx="105267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186840" y="1309680"/>
            <a:ext cx="1800" cy="5519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1240" y="241200"/>
            <a:ext cx="935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Market &amp; Busin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Trends &amp; Driv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Soc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Technologic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Environmen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Politic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ustome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ompeti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BAE SYSTE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rot="16200000">
            <a:off x="-285120" y="2594520"/>
            <a:ext cx="76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Value Stre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rot="16200000">
            <a:off x="-475560" y="5784480"/>
            <a:ext cx="115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Technology Capab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87200" y="2664000"/>
            <a:ext cx="10363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90440" y="2978280"/>
            <a:ext cx="10360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85760" y="3417840"/>
            <a:ext cx="10364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93680" y="3679920"/>
            <a:ext cx="10356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93680" y="5448240"/>
            <a:ext cx="10356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21760" y="1724040"/>
            <a:ext cx="109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Products &amp; Sub-syste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98720" y="2332080"/>
            <a:ext cx="50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Ser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17800" y="2736720"/>
            <a:ext cx="913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Business / Fac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09160" y="311616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Technology / I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19240" y="3444840"/>
            <a:ext cx="98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Cost / Risk Redu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12040" y="3848040"/>
            <a:ext cx="83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Strategic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20320" y="4254480"/>
            <a:ext cx="907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Non-techni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Enablers / Barri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omplimentary actions /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 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syste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Risk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3560" y="4930920"/>
            <a:ext cx="103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Technology lev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Enablers / Barri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omplementary technologi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Risk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12760" y="5923080"/>
            <a:ext cx="858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R &amp; T Program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Mileston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Invest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apabilities (technica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1292400" y="4898880"/>
            <a:ext cx="3704040" cy="1870200"/>
            <a:chOff x="1292400" y="4898880"/>
            <a:chExt cx="3704040" cy="1870200"/>
          </a:xfrm>
        </p:grpSpPr>
        <p:sp>
          <p:nvSpPr>
            <p:cNvPr id="627" name=""/>
            <p:cNvSpPr/>
            <p:nvPr/>
          </p:nvSpPr>
          <p:spPr>
            <a:xfrm>
              <a:off x="3195360" y="5353200"/>
              <a:ext cx="173880" cy="253800"/>
            </a:xfrm>
            <a:custGeom>
              <a:avLst/>
              <a:gdLst/>
              <a:ahLst/>
              <a:rect l="l" t="t" r="r" b="b"/>
              <a:pathLst>
                <a:path w="160" h="420">
                  <a:moveTo>
                    <a:pt x="0" y="4"/>
                  </a:moveTo>
                  <a:cubicBezTo>
                    <a:pt x="53" y="2"/>
                    <a:pt x="106" y="1"/>
                    <a:pt x="160" y="0"/>
                  </a:cubicBezTo>
                  <a:lnTo>
                    <a:pt x="160" y="420"/>
                  </a:lnTo>
                </a:path>
              </a:pathLst>
            </a:custGeom>
            <a:noFill/>
            <a:ln w="6480">
              <a:solidFill>
                <a:srgbClr val="80808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082760" y="6299280"/>
              <a:ext cx="89280" cy="438120"/>
            </a:xfrm>
            <a:custGeom>
              <a:avLst/>
              <a:gdLst>
                <a:gd name="textAreaLeft" fmla="*/ 0 w 89280"/>
                <a:gd name="textAreaRight" fmla="*/ 32040 w 89280"/>
                <a:gd name="textAreaTop" fmla="*/ 11160 h 438120"/>
                <a:gd name="textAreaBottom" fmla="*/ 426960 h 43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1292400" y="4898880"/>
              <a:ext cx="3704040" cy="1870200"/>
              <a:chOff x="1292400" y="4898880"/>
              <a:chExt cx="3704040" cy="1870200"/>
            </a:xfrm>
          </p:grpSpPr>
          <p:sp>
            <p:nvSpPr>
              <p:cNvPr id="630" name=""/>
              <p:cNvSpPr/>
              <p:nvPr/>
            </p:nvSpPr>
            <p:spPr>
              <a:xfrm>
                <a:off x="4094280" y="6237360"/>
                <a:ext cx="9021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808080"/>
                    </a:solidFill>
                    <a:latin typeface="Arial Narrow"/>
                  </a:rPr>
                  <a:t>IMU’s contain 3 gyros &amp; 3 accelerometer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1" name=""/>
              <p:cNvGrpSpPr/>
              <p:nvPr/>
            </p:nvGrpSpPr>
            <p:grpSpPr>
              <a:xfrm>
                <a:off x="1292400" y="4898880"/>
                <a:ext cx="2878560" cy="1870200"/>
                <a:chOff x="1292400" y="4898880"/>
                <a:chExt cx="2878560" cy="1870200"/>
              </a:xfrm>
            </p:grpSpPr>
            <p:sp>
              <p:nvSpPr>
                <p:cNvPr id="632" name=""/>
                <p:cNvSpPr/>
                <p:nvPr/>
              </p:nvSpPr>
              <p:spPr>
                <a:xfrm>
                  <a:off x="2249640" y="4898880"/>
                  <a:ext cx="108792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808080"/>
                      </a:solidFill>
                      <a:latin typeface="Arial Narrow"/>
                    </a:rPr>
                    <a:t>BAE SYSTEMS capabilities in MicroElectroMechanical Systems (MEMS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3" name=""/>
                <p:cNvGrpSpPr/>
                <p:nvPr/>
              </p:nvGrpSpPr>
              <p:grpSpPr>
                <a:xfrm>
                  <a:off x="1292400" y="5610240"/>
                  <a:ext cx="2878560" cy="1158840"/>
                  <a:chOff x="1292400" y="5610240"/>
                  <a:chExt cx="2878560" cy="1158840"/>
                </a:xfrm>
              </p:grpSpPr>
              <p:sp>
                <p:nvSpPr>
                  <p:cNvPr id="634" name=""/>
                  <p:cNvSpPr/>
                  <p:nvPr/>
                </p:nvSpPr>
                <p:spPr>
                  <a:xfrm>
                    <a:off x="1292400" y="5743440"/>
                    <a:ext cx="812880" cy="702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c. 1900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Physical principles of vibrating ring gyro established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2009160" y="5737320"/>
                    <a:ext cx="649080" cy="45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1970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Ceramic ring gyr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1708200" y="5848200"/>
                    <a:ext cx="360720" cy="0"/>
                  </a:xfrm>
                  <a:prstGeom prst="line">
                    <a:avLst/>
                  </a:prstGeom>
                  <a:ln w="6480">
                    <a:solidFill>
                      <a:srgbClr val="808080"/>
                    </a:solidFill>
                    <a:prstDash val="dash"/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2435040" y="5835600"/>
                    <a:ext cx="500040" cy="0"/>
                  </a:xfrm>
                  <a:prstGeom prst="line">
                    <a:avLst/>
                  </a:prstGeom>
                  <a:ln w="6480">
                    <a:solidFill>
                      <a:srgbClr val="80808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2921400" y="5610240"/>
                    <a:ext cx="1249560" cy="1158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1990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808080"/>
                        </a:solidFill>
                        <a:latin typeface="Arial Narrow"/>
                      </a:rPr>
                      <a:t>R&amp;T programme</a:t>
                    </a:r>
                    <a:r>
                      <a:rPr b="1" lang="en-US" sz="1600" spc="-1" strike="noStrike">
                        <a:solidFill>
                          <a:srgbClr val="808080"/>
                        </a:solidFill>
                        <a:latin typeface="Arial Narrow"/>
                      </a:rPr>
                      <a:t> </a:t>
                    </a: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to develop silicon gyro starts, for low cost rugged Inertial Measurement Unit (IMU) for missile applicat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639" name=""/>
          <p:cNvGrpSpPr/>
          <p:nvPr/>
        </p:nvGrpSpPr>
        <p:grpSpPr>
          <a:xfrm>
            <a:off x="2208240" y="1268280"/>
            <a:ext cx="6487560" cy="4509720"/>
            <a:chOff x="2208240" y="1268280"/>
            <a:chExt cx="6487560" cy="4509720"/>
          </a:xfrm>
        </p:grpSpPr>
        <p:sp>
          <p:nvSpPr>
            <p:cNvPr id="640" name=""/>
            <p:cNvSpPr/>
            <p:nvPr/>
          </p:nvSpPr>
          <p:spPr>
            <a:xfrm>
              <a:off x="2208240" y="4175280"/>
              <a:ext cx="203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Arial Narrow"/>
                </a:rPr>
                <a:t>Sumitomo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 Narrow"/>
                </a:rPr>
                <a:t> - long term supplier of acceleromete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125240" y="4280040"/>
              <a:ext cx="1015920" cy="0"/>
            </a:xfrm>
            <a:prstGeom prst="line">
              <a:avLst/>
            </a:prstGeom>
            <a:ln w="6480">
              <a:solidFill>
                <a:srgbClr val="80808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091840" y="4175280"/>
              <a:ext cx="32259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808080"/>
                  </a:solidFill>
                  <a:latin typeface="Arial Narrow"/>
                </a:rPr>
                <a:t>Joint Venture with Sumitomo</a:t>
              </a:r>
              <a:r>
                <a:rPr b="0" lang="en-GB" sz="800" spc="-1" strike="noStrike">
                  <a:solidFill>
                    <a:srgbClr val="808080"/>
                  </a:solidFill>
                  <a:latin typeface="Arial Narrow"/>
                </a:rPr>
                <a:t>, to leverage their high volume low cost manufacturing capabilities (and £xM capital plant)… automotive ‘route to market’ identified, as a means to reduce cost of gy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5320440" y="4803480"/>
              <a:ext cx="0" cy="974520"/>
            </a:xfrm>
            <a:prstGeom prst="line">
              <a:avLst/>
            </a:prstGeom>
            <a:ln w="648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808960" y="4635360"/>
              <a:ext cx="28868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Arial Narrow"/>
                </a:rPr>
                <a:t>Political constraints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 Narrow"/>
                </a:rPr>
                <a:t> in Japan mean that ‘specials’ for military application must be manufacturing in U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248080" y="1268280"/>
              <a:ext cx="80100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Narrow"/>
                </a:rPr>
                <a:t>2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Arial Narrow"/>
                </a:rPr>
                <a:t>Automotive 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 Narrow"/>
                </a:rPr>
                <a:t>application (2nd generation ABS) - high volume, low pri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flipV="1">
              <a:off x="5440320" y="2590560"/>
              <a:ext cx="10440" cy="1638360"/>
            </a:xfrm>
            <a:prstGeom prst="line">
              <a:avLst/>
            </a:prstGeom>
            <a:ln w="648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5734080" y="1268280"/>
            <a:ext cx="3742920" cy="2927160"/>
            <a:chOff x="5734080" y="1268280"/>
            <a:chExt cx="3742920" cy="2927160"/>
          </a:xfrm>
        </p:grpSpPr>
        <p:grpSp>
          <p:nvGrpSpPr>
            <p:cNvPr id="648" name=""/>
            <p:cNvGrpSpPr/>
            <p:nvPr/>
          </p:nvGrpSpPr>
          <p:grpSpPr>
            <a:xfrm>
              <a:off x="5734080" y="1268280"/>
              <a:ext cx="2676600" cy="2927160"/>
              <a:chOff x="5734080" y="1268280"/>
              <a:chExt cx="2676600" cy="2927160"/>
            </a:xfrm>
          </p:grpSpPr>
          <p:sp>
            <p:nvSpPr>
              <p:cNvPr id="649" name=""/>
              <p:cNvSpPr/>
              <p:nvPr/>
            </p:nvSpPr>
            <p:spPr>
              <a:xfrm>
                <a:off x="5998680" y="1268280"/>
                <a:ext cx="801000" cy="115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8080"/>
                    </a:solidFill>
                    <a:latin typeface="Arial Narrow"/>
                  </a:rPr>
                  <a:t>Sea-wolf </a:t>
                </a:r>
                <a:r>
                  <a:rPr b="0" lang="en-US" sz="800" spc="-1" strike="noStrike">
                    <a:solidFill>
                      <a:srgbClr val="808080"/>
                    </a:solidFill>
                    <a:latin typeface="Arial Narrow"/>
                  </a:rPr>
                  <a:t>missile applica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808080"/>
                    </a:solidFill>
                    <a:latin typeface="Arial Narrow"/>
                  </a:rPr>
                  <a:t>(10x smaller, lighter &amp; cheaper than previous technology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734080" y="1413000"/>
                <a:ext cx="321480" cy="0"/>
              </a:xfrm>
              <a:prstGeom prst="line">
                <a:avLst/>
              </a:prstGeom>
              <a:ln w="6480">
                <a:solidFill>
                  <a:srgbClr val="80808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199920" y="3645000"/>
                <a:ext cx="195120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808080"/>
                    </a:solidFill>
                    <a:latin typeface="Arial Narrow"/>
                  </a:rPr>
                  <a:t>BAE SYSTEMS lead in inertial navigation (</a:t>
                </a:r>
                <a:r>
                  <a:rPr b="1" lang="en-US" sz="1400" spc="-1" strike="noStrike">
                    <a:solidFill>
                      <a:srgbClr val="808080"/>
                    </a:solidFill>
                    <a:latin typeface="Arial Narrow"/>
                  </a:rPr>
                  <a:t>bargaining chip</a:t>
                </a:r>
                <a:r>
                  <a:rPr b="0" lang="en-US" sz="800" spc="-1" strike="noStrike">
                    <a:solidFill>
                      <a:srgbClr val="808080"/>
                    </a:solidFill>
                    <a:latin typeface="Arial Narrow"/>
                  </a:rPr>
                  <a:t> in partnerships &amp; mergers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356160" y="2637000"/>
                <a:ext cx="0" cy="936360"/>
              </a:xfrm>
              <a:prstGeom prst="line">
                <a:avLst/>
              </a:prstGeom>
              <a:ln w="6480">
                <a:solidFill>
                  <a:srgbClr val="808080"/>
                </a:solidFill>
                <a:prstDash val="dash"/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765480" y="3089160"/>
                <a:ext cx="1645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808080"/>
                    </a:solidFill>
                    <a:latin typeface="Arial Narrow"/>
                  </a:rPr>
                  <a:t>Opportunities to licence technolog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811920" y="1365120"/>
                <a:ext cx="1105200" cy="97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808080"/>
                    </a:solidFill>
                    <a:latin typeface="Arial Narrow"/>
                  </a:rPr>
                  <a:t>Segway Human Transporter</a:t>
                </a:r>
                <a:r>
                  <a:rPr b="0" lang="en-GB" sz="800" spc="-1" strike="noStrike">
                    <a:solidFill>
                      <a:srgbClr val="808080"/>
                    </a:solidFill>
                    <a:latin typeface="Arial Narrow"/>
                  </a:rPr>
                  <a:t> (BAE has European Military rights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703560" y="1479600"/>
                <a:ext cx="144360" cy="0"/>
              </a:xfrm>
              <a:prstGeom prst="line">
                <a:avLst/>
              </a:prstGeom>
              <a:ln w="6480">
                <a:solidFill>
                  <a:srgbClr val="80808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>
              <a:off x="7955280" y="3933720"/>
              <a:ext cx="195840" cy="0"/>
            </a:xfrm>
            <a:prstGeom prst="line">
              <a:avLst/>
            </a:prstGeom>
            <a:ln w="6480">
              <a:solidFill>
                <a:srgbClr val="80808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197920" y="3736800"/>
              <a:ext cx="127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Narrow"/>
                </a:rPr>
                <a:t>Move up ‘food chain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Narrow"/>
                </a:rPr>
                <a:t>(heads to sub-systems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5587920" y="5848200"/>
            <a:ext cx="95724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507000" y="5737320"/>
            <a:ext cx="123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&amp;T continues, to develop higher spec &amp; cheaper silicon gyro technolo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637400" y="3141720"/>
            <a:ext cx="1293840" cy="2706480"/>
          </a:xfrm>
          <a:custGeom>
            <a:avLst/>
            <a:gdLst/>
            <a:ahLst/>
            <a:rect l="l" t="t" r="r" b="b"/>
            <a:pathLst>
              <a:path w="204" h="864">
                <a:moveTo>
                  <a:pt x="0" y="864"/>
                </a:moveTo>
                <a:lnTo>
                  <a:pt x="204" y="864"/>
                </a:lnTo>
                <a:lnTo>
                  <a:pt x="204" y="0"/>
                </a:lnTo>
              </a:path>
            </a:pathLst>
          </a:custGeom>
          <a:noFill/>
          <a:ln w="6480">
            <a:solidFill>
              <a:srgbClr val="000000"/>
            </a:solidFill>
            <a:prstDash val="dash"/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613640" y="1479600"/>
            <a:ext cx="77148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904160" y="5673600"/>
            <a:ext cx="82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20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im for &lt;$x silicon gy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340840" y="1265400"/>
            <a:ext cx="148104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otential applica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ig US market for military grade IMU system (smaller, cheaper, more accurate); GPS den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utomotive (supplement GP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tabilised binocula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curity (signatur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Medical (walking disabilities - measure &amp; correct gait); stair-climbing wheelchai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994320" y="57312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 Narrow"/>
              </a:rPr>
              <a:t>Expert Judgement and “Gut Feel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715760" y="2257560"/>
            <a:ext cx="77400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ut Feel” is used by many for the early stage valuation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(e.g. Pavia 1991, Bannister &amp; Remenyi 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ue to lack of understanding of complex issues in 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owever this expert judgement can be formali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ecessary to recognize the importance of experience in the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mplex situation of early-stage technology valuation as this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oes not necessarily dictates a lack of rig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5821200" y="1573200"/>
            <a:ext cx="1202040" cy="46044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586560" y="2070000"/>
            <a:ext cx="13413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ew C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4455720" y="2689200"/>
            <a:ext cx="11350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6453360" y="2038320"/>
            <a:ext cx="288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454800" y="3019320"/>
            <a:ext cx="468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543480" y="5338800"/>
            <a:ext cx="17049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nfirmed C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527880" y="3014640"/>
            <a:ext cx="21859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istorical C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904000" y="1609560"/>
            <a:ext cx="1158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662440" y="5418000"/>
            <a:ext cx="1819440" cy="54144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996160" y="5413320"/>
            <a:ext cx="11966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osed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598840" y="3446640"/>
            <a:ext cx="2098440" cy="59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ural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Fuzzy ARTMA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3522600" y="2982600"/>
            <a:ext cx="468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702480" y="5025960"/>
            <a:ext cx="2039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dapted C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634000" y="2411280"/>
            <a:ext cx="1857240" cy="5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rie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603520" y="4454640"/>
            <a:ext cx="1857240" cy="5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584440" y="2421000"/>
            <a:ext cx="1857240" cy="5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e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653080" y="3433680"/>
            <a:ext cx="1857240" cy="5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6449760" y="4044960"/>
            <a:ext cx="468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453360" y="5025960"/>
            <a:ext cx="2880" cy="38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672160" y="4417920"/>
            <a:ext cx="1857240" cy="5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3508200" y="4039920"/>
            <a:ext cx="5040" cy="4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7" name=""/>
          <p:cNvCxnSpPr/>
          <p:nvPr/>
        </p:nvCxnSpPr>
        <p:spPr>
          <a:xfrm rot="10800000">
            <a:off x="3239280" y="5054040"/>
            <a:ext cx="1980360" cy="624600"/>
          </a:xfrm>
          <a:prstGeom prst="bentConnector3">
            <a:avLst>
              <a:gd name="adj1" fmla="val 1002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91840" y="318960"/>
            <a:ext cx="8915400" cy="7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Arial Narrow"/>
              </a:rPr>
              <a:t>A Hybrid CBR and NN Cycle</a:t>
            </a:r>
            <a:br>
              <a:rPr sz="4000"/>
            </a:br>
            <a:r>
              <a:rPr b="1" i="1" lang="en-US" sz="3200" spc="-1" strike="noStrike">
                <a:solidFill>
                  <a:srgbClr val="000099"/>
                </a:solidFill>
                <a:latin typeface="Arial Narrow"/>
              </a:rPr>
              <a:t>[Case based reasoning &amp; neural network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7081920" y="1884240"/>
            <a:ext cx="210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ke dec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346480" y="2322360"/>
            <a:ext cx="447480" cy="476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966000" y="2281320"/>
            <a:ext cx="1825560" cy="9507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G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Re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575240" y="2300400"/>
            <a:ext cx="450720" cy="476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470640" y="2347920"/>
            <a:ext cx="447840" cy="476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010120" y="2154240"/>
            <a:ext cx="132732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316400" y="4262400"/>
            <a:ext cx="1635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691160" y="1844640"/>
            <a:ext cx="23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valuate pro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106640" y="1384200"/>
            <a:ext cx="1260360" cy="412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714760" y="1062000"/>
            <a:ext cx="20192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35680" y="1082520"/>
            <a:ext cx="22798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036960" y="1866960"/>
            <a:ext cx="1498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rit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809800" y="2212920"/>
            <a:ext cx="1679760" cy="934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Lead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084320" y="2205000"/>
            <a:ext cx="1224000" cy="735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MT propo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654440" y="1122480"/>
            <a:ext cx="2340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25480" y="33660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Arial Narrow"/>
              </a:rPr>
              <a:t>SIRAT Approa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4378320" y="3879720"/>
            <a:ext cx="1490760" cy="1408320"/>
          </a:xfrm>
          <a:prstGeom prst="rect">
            <a:avLst/>
          </a:prstGeom>
          <a:ln w="0">
            <a:noFill/>
          </a:ln>
        </p:spPr>
      </p:pic>
      <p:pic>
        <p:nvPicPr>
          <p:cNvPr id="706" name="" descr=""/>
          <p:cNvPicPr/>
          <p:nvPr/>
        </p:nvPicPr>
        <p:blipFill>
          <a:blip r:embed="rId2"/>
          <a:stretch/>
        </p:blipFill>
        <p:spPr>
          <a:xfrm>
            <a:off x="5110200" y="1913040"/>
            <a:ext cx="1198440" cy="1125360"/>
          </a:xfrm>
          <a:prstGeom prst="rect">
            <a:avLst/>
          </a:prstGeom>
          <a:ln w="0">
            <a:noFill/>
          </a:ln>
        </p:spPr>
      </p:pic>
      <p:sp>
        <p:nvSpPr>
          <p:cNvPr id="707" name=""/>
          <p:cNvSpPr/>
          <p:nvPr/>
        </p:nvSpPr>
        <p:spPr>
          <a:xfrm>
            <a:off x="3533760" y="4703760"/>
            <a:ext cx="469800" cy="476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6939000" y="3403440"/>
            <a:ext cx="2490480" cy="2055960"/>
            <a:chOff x="6939000" y="3403440"/>
            <a:chExt cx="2490480" cy="2055960"/>
          </a:xfrm>
        </p:grpSpPr>
        <p:sp>
          <p:nvSpPr>
            <p:cNvPr id="709" name=""/>
            <p:cNvSpPr/>
            <p:nvPr/>
          </p:nvSpPr>
          <p:spPr>
            <a:xfrm>
              <a:off x="7033680" y="4510080"/>
              <a:ext cx="1790280" cy="9493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= Goo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= Aver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= Re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939000" y="3403440"/>
              <a:ext cx="249048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ject Committ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004520" y="4146480"/>
              <a:ext cx="24145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Make deci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"/>
          <p:cNvSpPr/>
          <p:nvPr/>
        </p:nvSpPr>
        <p:spPr>
          <a:xfrm>
            <a:off x="6240600" y="4703760"/>
            <a:ext cx="469800" cy="477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548160" y="5367240"/>
            <a:ext cx="3402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ntelligent Decision Suppor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1406520" y="3525840"/>
            <a:ext cx="1793520" cy="2343240"/>
            <a:chOff x="1406520" y="3525840"/>
            <a:chExt cx="1793520" cy="2343240"/>
          </a:xfrm>
        </p:grpSpPr>
        <p:sp>
          <p:nvSpPr>
            <p:cNvPr id="715" name=""/>
            <p:cNvSpPr/>
            <p:nvPr/>
          </p:nvSpPr>
          <p:spPr>
            <a:xfrm>
              <a:off x="1480320" y="3525840"/>
              <a:ext cx="1260360" cy="387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u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406520" y="4035600"/>
              <a:ext cx="1793520" cy="1833480"/>
            </a:xfrm>
            <a:prstGeom prst="flowChartMagneticDisk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ta 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Captures Y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Associated X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flipV="1">
            <a:off x="2930400" y="3505320"/>
            <a:ext cx="3935520" cy="3045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312920" y="2933640"/>
            <a:ext cx="0" cy="63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880920" y="357336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66880" y="3573360"/>
            <a:ext cx="0" cy="140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66880" y="4991040"/>
            <a:ext cx="522360" cy="12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963720" y="919080"/>
            <a:ext cx="8240760" cy="245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2057400" y="457200"/>
            <a:ext cx="596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 Narrow"/>
              </a:rPr>
              <a:t>Portfolio method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57200" y="1905120"/>
            <a:ext cx="9067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ortfolio method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used widely in indust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o support project / op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lection, to manage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d balance inve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ny different measures are used, and typically organis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ustomise the matrix and process to suit their contex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5106600" y="1371600"/>
            <a:ext cx="3960720" cy="2514600"/>
            <a:chOff x="5106600" y="1371600"/>
            <a:chExt cx="3960720" cy="2514600"/>
          </a:xfrm>
        </p:grpSpPr>
        <p:sp>
          <p:nvSpPr>
            <p:cNvPr id="726" name=""/>
            <p:cNvSpPr/>
            <p:nvPr/>
          </p:nvSpPr>
          <p:spPr>
            <a:xfrm>
              <a:off x="5867280" y="1904760"/>
              <a:ext cx="1599840" cy="990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467480" y="1904760"/>
              <a:ext cx="1599840" cy="990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867280" y="2895480"/>
              <a:ext cx="1599840" cy="990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467480" y="2895480"/>
              <a:ext cx="1599840" cy="990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5714640" y="2133360"/>
              <a:ext cx="0" cy="152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705360" y="1752480"/>
              <a:ext cx="152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106600" y="2743200"/>
              <a:ext cx="62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Ris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010640" y="1371600"/>
              <a:ext cx="93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Rew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248160" y="2286000"/>
              <a:ext cx="30456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553080" y="2971800"/>
              <a:ext cx="60912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381880" y="2057400"/>
              <a:ext cx="22824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848360" y="304776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314840" y="2286000"/>
              <a:ext cx="68544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857640" y="2590560"/>
              <a:ext cx="30456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381880" y="2819160"/>
              <a:ext cx="380520" cy="381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30600" y="668160"/>
            <a:ext cx="307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99"/>
                </a:solidFill>
                <a:latin typeface="Arial Narrow"/>
              </a:rPr>
              <a:t>Workshop 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92080" y="1622520"/>
            <a:ext cx="8460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.00 Introd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.15 Valuing technology – an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.00 Discussion: examples/issues from particip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.15 Small group exercise (including coffee/t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.00 Feedback from groups &amp; discu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.30 C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372960" y="1217520"/>
            <a:ext cx="51102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ojec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attractivenes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mercial 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Strategic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 Narrow"/>
              </a:rPr>
              <a:t>Risks and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ortfolio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bala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long pipeline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(time, maturity, business life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ver business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(business area, product mi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cross capabilities/re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498200" y="1176480"/>
            <a:ext cx="2346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projected financial bene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market grow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speed of pay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protec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498920" y="2433600"/>
            <a:ext cx="3326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 Narrow"/>
              </a:rPr>
              <a:t>partnership poten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 Narrow"/>
              </a:rPr>
              <a:t>capability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 Narrow"/>
              </a:rPr>
              <a:t>competitive advantage / different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 Narrow"/>
              </a:rPr>
              <a:t>credibility with 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497840" y="3679920"/>
            <a:ext cx="3050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Narrow"/>
              </a:rPr>
              <a:t>commercial r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Narrow"/>
              </a:rPr>
              <a:t>technical r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Narrow"/>
              </a:rPr>
              <a:t>constraints (legal, environmenta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 Narrow"/>
              </a:rPr>
              <a:t>   </a:t>
            </a:r>
            <a:r>
              <a:rPr b="1" lang="en-US" sz="1600" spc="-1" strike="noStrike">
                <a:solidFill>
                  <a:srgbClr val="3333cc"/>
                </a:solidFill>
                <a:latin typeface="Arial Narrow"/>
              </a:rPr>
              <a:t>political, partnership necessary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500000" y="5002200"/>
            <a:ext cx="25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Cost (overall / to next revie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leveraged co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389480" y="1200240"/>
            <a:ext cx="179280" cy="1090440"/>
          </a:xfrm>
          <a:custGeom>
            <a:avLst/>
            <a:gdLst>
              <a:gd name="textAreaLeft" fmla="*/ 114480 w 179280"/>
              <a:gd name="textAreaRight" fmla="*/ 179640 w 179280"/>
              <a:gd name="textAreaTop" fmla="*/ 28440 h 1090440"/>
              <a:gd name="textAreaBottom" fmla="*/ 1062000 h 1090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386240" y="2475000"/>
            <a:ext cx="179280" cy="1090440"/>
          </a:xfrm>
          <a:custGeom>
            <a:avLst/>
            <a:gdLst>
              <a:gd name="textAreaLeft" fmla="*/ 114480 w 179280"/>
              <a:gd name="textAreaRight" fmla="*/ 179640 w 179280"/>
              <a:gd name="textAreaTop" fmla="*/ 28440 h 1090440"/>
              <a:gd name="textAreaBottom" fmla="*/ 1062000 h 1090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383000" y="3738600"/>
            <a:ext cx="179640" cy="1090440"/>
          </a:xfrm>
          <a:custGeom>
            <a:avLst/>
            <a:gdLst>
              <a:gd name="textAreaLeft" fmla="*/ 114840 w 179640"/>
              <a:gd name="textAreaRight" fmla="*/ 180000 w 179640"/>
              <a:gd name="textAreaTop" fmla="*/ 28440 h 1090440"/>
              <a:gd name="textAreaBottom" fmla="*/ 1062000 h 1090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379760" y="5002200"/>
            <a:ext cx="179640" cy="592200"/>
          </a:xfrm>
          <a:custGeom>
            <a:avLst/>
            <a:gdLst>
              <a:gd name="textAreaLeft" fmla="*/ 114840 w 179640"/>
              <a:gd name="textAreaRight" fmla="*/ 180000 w 179640"/>
              <a:gd name="textAreaTop" fmla="*/ 15120 h 592200"/>
              <a:gd name="textAreaBottom" fmla="*/ 577080 h 59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3016080" y="1760400"/>
            <a:ext cx="1376640" cy="106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624040" y="2259000"/>
            <a:ext cx="1758960" cy="7509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079800" y="2651040"/>
            <a:ext cx="1312920" cy="16178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195560" y="2989440"/>
            <a:ext cx="3228840" cy="23176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43760" y="311040"/>
            <a:ext cx="84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99"/>
                </a:solidFill>
                <a:latin typeface="Arial Narrow"/>
              </a:rPr>
              <a:t>Example portfolio approach &amp; dimensions (conce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6676560" y="1066680"/>
            <a:ext cx="3070440" cy="2701800"/>
            <a:chOff x="6676560" y="1066680"/>
            <a:chExt cx="3070440" cy="2701800"/>
          </a:xfrm>
        </p:grpSpPr>
        <p:sp>
          <p:nvSpPr>
            <p:cNvPr id="756" name=""/>
            <p:cNvSpPr/>
            <p:nvPr/>
          </p:nvSpPr>
          <p:spPr>
            <a:xfrm rot="16200000">
              <a:off x="6868080" y="1743840"/>
              <a:ext cx="1211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commercial attractivenes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106840" y="2746440"/>
              <a:ext cx="151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strategic 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791120" y="2323800"/>
              <a:ext cx="187812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791120" y="1166760"/>
              <a:ext cx="0" cy="1519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862400" y="1347840"/>
              <a:ext cx="217080" cy="217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116560" y="2252520"/>
              <a:ext cx="144000" cy="1447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458920" y="2149560"/>
              <a:ext cx="290160" cy="2887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9199800" y="2470320"/>
              <a:ext cx="180720" cy="179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7791120" y="1294920"/>
              <a:ext cx="429840" cy="139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791120" y="2685960"/>
              <a:ext cx="1950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676560" y="1600200"/>
              <a:ext cx="2238480" cy="21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154360" y="16765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363520" y="1809720"/>
              <a:ext cx="171360" cy="66600"/>
            </a:xfrm>
            <a:prstGeom prst="rtTriangl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13629000">
              <a:off x="8169120" y="1750320"/>
              <a:ext cx="187200" cy="125280"/>
            </a:xfrm>
            <a:prstGeom prst="rtTriangl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18534000">
              <a:off x="8313840" y="1694160"/>
              <a:ext cx="152640" cy="123480"/>
            </a:xfrm>
            <a:prstGeom prst="rtTriangl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rot="13629000">
              <a:off x="8187120" y="1794960"/>
              <a:ext cx="142920" cy="209160"/>
            </a:xfrm>
            <a:prstGeom prst="rtTriangl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rot="17542200">
              <a:off x="8206200" y="1709640"/>
              <a:ext cx="142920" cy="209160"/>
            </a:xfrm>
            <a:prstGeom prst="rtTriangl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rot="11118000">
              <a:off x="8228160" y="1849320"/>
              <a:ext cx="172440" cy="200160"/>
            </a:xfrm>
            <a:prstGeom prst="rtTriangl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rot="9851400">
              <a:off x="8303040" y="1868040"/>
              <a:ext cx="140760" cy="158760"/>
            </a:xfrm>
            <a:prstGeom prst="rtTriangl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689680" y="1879560"/>
              <a:ext cx="103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0080"/>
                  </a:solidFill>
                  <a:latin typeface="Arial Narrow"/>
                </a:rPr>
                <a:t>Budget cut-of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382960" y="147780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 Narrow"/>
                </a:rPr>
                <a:t>Risk profi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852680" y="106668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 Narrow"/>
                </a:rPr>
                <a:t>Size = co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840880" y="1143000"/>
              <a:ext cx="90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Colour = B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2077200" y="6477120"/>
            <a:ext cx="448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veloped in collaboration with BAE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156960" y="182520"/>
            <a:ext cx="50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333399"/>
                </a:solidFill>
                <a:latin typeface="Arial Narrow"/>
              </a:rPr>
              <a:t>Comparing the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-212760" y="743040"/>
            <a:ext cx="9828720" cy="5400720"/>
            <a:chOff x="-212760" y="743040"/>
            <a:chExt cx="9828720" cy="5400720"/>
          </a:xfrm>
        </p:grpSpPr>
        <p:grpSp>
          <p:nvGrpSpPr>
            <p:cNvPr id="782" name=""/>
            <p:cNvGrpSpPr/>
            <p:nvPr/>
          </p:nvGrpSpPr>
          <p:grpSpPr>
            <a:xfrm>
              <a:off x="-212760" y="743040"/>
              <a:ext cx="9828720" cy="4333320"/>
              <a:chOff x="-212760" y="743040"/>
              <a:chExt cx="9828720" cy="4333320"/>
            </a:xfrm>
          </p:grpSpPr>
          <p:sp>
            <p:nvSpPr>
              <p:cNvPr id="783" name=""/>
              <p:cNvSpPr/>
              <p:nvPr/>
            </p:nvSpPr>
            <p:spPr>
              <a:xfrm>
                <a:off x="731880" y="1446480"/>
                <a:ext cx="77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DCF etc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82600" y="2268720"/>
                <a:ext cx="12063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Real options &amp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Decision tre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34440" y="4482720"/>
                <a:ext cx="1157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 Narrow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 Narrow"/>
                  </a:rPr>
                  <a:t>Roadmapp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-212760" y="3243960"/>
                <a:ext cx="1752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Portfolio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method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7" name=""/>
              <p:cNvGrpSpPr/>
              <p:nvPr/>
            </p:nvGrpSpPr>
            <p:grpSpPr>
              <a:xfrm>
                <a:off x="1539720" y="1028880"/>
                <a:ext cx="8076240" cy="4047480"/>
                <a:chOff x="1539720" y="1028880"/>
                <a:chExt cx="8076240" cy="404748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1539720" y="3052440"/>
                  <a:ext cx="3990960" cy="10119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Multiple projects / option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Supports communication &amp; understand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Multiple dimension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Can incorporate other financial approach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1539720" y="4064400"/>
                  <a:ext cx="3990960" cy="10119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Big picture / contex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Supports communication &amp; understand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Integration (builds on &amp; link to other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approaches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1539720" y="2040840"/>
                  <a:ext cx="3990960" cy="1011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Models flexibility &amp; uncertaint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Builds on experience in financial markets (RO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Graphical representation (DT)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Supports communication (DT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1539720" y="1028880"/>
                  <a:ext cx="3990960" cy="10119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Simpl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Financia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Widely used and accep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5530680" y="3052440"/>
                  <a:ext cx="4085280" cy="10119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Typically needs customisation - man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different approach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Project synergi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5530680" y="4064400"/>
                  <a:ext cx="4085280" cy="10119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Can be complex &amp; time-consuming to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develo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Typically needs customisation - man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different approach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5530680" y="2040840"/>
                  <a:ext cx="4085280" cy="1011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 Narrow"/>
                    </a:rPr>
                    <a:t>Fairly complex mathematics / black box (RO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 Narrow"/>
                    </a:rPr>
                    <a:t>Data may be scarce (RO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 Narrow"/>
                    </a:rPr>
                    <a:t>Analogy with financial (tradeable) option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 Narrow"/>
                    </a:rPr>
                    <a:t>  </a:t>
                  </a: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 Narrow"/>
                    </a:rPr>
                    <a:t>not perfect (RO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5530680" y="1028880"/>
                  <a:ext cx="4085280" cy="10119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Ignores non-financial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Simplistic - can mask complexity &amp; risk /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uncertainti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Inflexible (single option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6" name=""/>
              <p:cNvSpPr/>
              <p:nvPr/>
            </p:nvSpPr>
            <p:spPr>
              <a:xfrm>
                <a:off x="3286080" y="743040"/>
                <a:ext cx="1008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Advantag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097400" y="743040"/>
                <a:ext cx="96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Limitatio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8" name=""/>
            <p:cNvSpPr/>
            <p:nvPr/>
          </p:nvSpPr>
          <p:spPr>
            <a:xfrm>
              <a:off x="1539720" y="5073840"/>
              <a:ext cx="3985920" cy="1069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520600" y="5070600"/>
              <a:ext cx="4086000" cy="1069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67200" y="5310360"/>
              <a:ext cx="986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Artific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intellige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711080" y="5127840"/>
              <a:ext cx="3056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raws on historical data on proje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romotes wider discus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May help define risk for other methods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791680" y="5162760"/>
              <a:ext cx="33577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eed access to data &amp; takes time to pro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Better for mature technolog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Ignores projects that don’t go ahe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Relevance of cases may decrease with 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999720" y="573120"/>
            <a:ext cx="227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99"/>
                </a:solidFill>
                <a:latin typeface="Arial Narrow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/>
          </p:nvPr>
        </p:nvSpPr>
        <p:spPr>
          <a:xfrm>
            <a:off x="1517400" y="1600200"/>
            <a:ext cx="789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ransparency and usability is key for technology valuation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ommunication issue “technologist &lt;–&gt; commercia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Mutual understanding of valuation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Importance of technology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Potential for VRM and portfolio management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eal options potential not yet adop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an be integrated with VRM and portfolio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Expertise and gut feel often used but poorly underst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41080" y="13726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333399"/>
                </a:solidFill>
                <a:latin typeface="Arial Narrow"/>
              </a:rPr>
              <a:t>Towards a framework for 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1000080" y="573120"/>
            <a:ext cx="337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99"/>
                </a:solidFill>
                <a:latin typeface="Arial Narrow"/>
              </a:rPr>
              <a:t>Review of Lit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03440" y="2197080"/>
            <a:ext cx="88056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ny theories exist, yet few frameworks or overview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ethods and tools are often “mathematically sophisticated but contextually na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ї</a:t>
            </a:r>
            <a:r>
              <a:rPr b="1" lang="fr-CH" sz="2400" spc="-1" strike="noStrike">
                <a:solidFill>
                  <a:srgbClr val="000000"/>
                </a:solidFill>
                <a:latin typeface="Arial Narrow"/>
              </a:rPr>
              <a:t>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fr-CH" sz="2400" spc="-1" strike="noStrike">
                <a:solidFill>
                  <a:srgbClr val="000000"/>
                </a:solidFill>
                <a:latin typeface="Arial Narrow"/>
              </a:rPr>
              <a:t> (Heidenberger and Summer, 1999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ack of coherence between theory and practice: what’s being used is not what’s in the boo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710640" y="365040"/>
            <a:ext cx="59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 Narrow"/>
              </a:rPr>
              <a:t>Guiding questions and persp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95360" y="71748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250920" y="833400"/>
            <a:ext cx="8754120" cy="5677200"/>
            <a:chOff x="250920" y="833400"/>
            <a:chExt cx="8754120" cy="5677200"/>
          </a:xfrm>
        </p:grpSpPr>
        <p:sp>
          <p:nvSpPr>
            <p:cNvPr id="811" name=""/>
            <p:cNvSpPr/>
            <p:nvPr/>
          </p:nvSpPr>
          <p:spPr>
            <a:xfrm>
              <a:off x="7596360" y="2057400"/>
              <a:ext cx="1368360" cy="2808360"/>
            </a:xfrm>
            <a:prstGeom prst="flowChartAlternateProcess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50920" y="2457360"/>
              <a:ext cx="2376360" cy="2408400"/>
            </a:xfrm>
            <a:custGeom>
              <a:avLst/>
              <a:gdLst>
                <a:gd name="textAreaLeft" fmla="*/ 0 w 2376360"/>
                <a:gd name="textAreaRight" fmla="*/ 2376720 w 2376360"/>
                <a:gd name="textAreaTop" fmla="*/ 0 h 2408400"/>
                <a:gd name="textAreaBottom" fmla="*/ 2408760 h 240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990" y="0"/>
                  </a:lnTo>
                  <a:lnTo>
                    <a:pt x="21600" y="10800"/>
                  </a:lnTo>
                  <a:lnTo>
                    <a:pt x="1699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195640" y="2471760"/>
              <a:ext cx="5327640" cy="2394000"/>
            </a:xfrm>
            <a:custGeom>
              <a:avLst/>
              <a:gdLst>
                <a:gd name="textAreaLeft" fmla="*/ 0 w 5327640"/>
                <a:gd name="textAreaRight" fmla="*/ 5328000 w 532764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450" y="0"/>
                  </a:lnTo>
                  <a:lnTo>
                    <a:pt x="21600" y="10800"/>
                  </a:lnTo>
                  <a:lnTo>
                    <a:pt x="19450" y="21600"/>
                  </a:lnTo>
                  <a:lnTo>
                    <a:pt x="0" y="21600"/>
                  </a:lnTo>
                  <a:lnTo>
                    <a:pt x="2150" y="10800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060720" y="1084320"/>
              <a:ext cx="3887640" cy="1373040"/>
            </a:xfrm>
            <a:prstGeom prst="downArrowCallout">
              <a:avLst>
                <a:gd name="adj1" fmla="val 64630"/>
                <a:gd name="adj2" fmla="val 40636"/>
                <a:gd name="adj3" fmla="val 33333"/>
                <a:gd name="adj4" fmla="val 66667"/>
              </a:avLst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rot="10800000">
              <a:off x="3060360" y="4893840"/>
              <a:ext cx="3887640" cy="1473480"/>
            </a:xfrm>
            <a:prstGeom prst="downArrowCallout">
              <a:avLst>
                <a:gd name="adj1" fmla="val 66064"/>
                <a:gd name="adj2" fmla="val 33029"/>
                <a:gd name="adj3" fmla="val 28051"/>
                <a:gd name="adj4" fmla="val 71949"/>
              </a:avLst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911400" y="1041480"/>
              <a:ext cx="22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</a:rPr>
                <a:t>What are the potentials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306600" y="5288040"/>
              <a:ext cx="3426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</a:rPr>
                <a:t>How can the firm accommodate the new technologies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093760" y="2430360"/>
              <a:ext cx="4442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</a:rPr>
                <a:t>How to shape and justify decisions </a:t>
              </a:r>
              <a:br>
                <a:rPr sz="1400"/>
              </a:b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</a:rPr>
                <a:t>about technology investment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620480" y="833400"/>
              <a:ext cx="1384560" cy="12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 Narrow"/>
                </a:rPr>
                <a:t>Aim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 Narrow"/>
                </a:rPr>
                <a:t>More reliable </a:t>
              </a:r>
              <a:br>
                <a:rPr sz="1800"/>
              </a:br>
              <a:r>
                <a:rPr b="1" i="1" lang="en-US" sz="1800" spc="-1" strike="noStrike">
                  <a:solidFill>
                    <a:srgbClr val="000000"/>
                  </a:solidFill>
                  <a:latin typeface="Arial Narrow"/>
                </a:rPr>
                <a:t>and accurate </a:t>
              </a:r>
              <a:br>
                <a:rPr sz="1800"/>
              </a:br>
              <a:r>
                <a:rPr b="1" i="1" lang="en-US" sz="1800" spc="-1" strike="noStrike">
                  <a:solidFill>
                    <a:srgbClr val="000000"/>
                  </a:solidFill>
                  <a:latin typeface="Arial Narrow"/>
                </a:rPr>
                <a:t>decis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596360" y="3786120"/>
              <a:ext cx="1225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6699"/>
                  </a:solidFill>
                  <a:latin typeface="Arial"/>
                </a:rPr>
                <a:t>New Tools &amp; Hybrid Techniqu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596360" y="2489400"/>
              <a:ext cx="13665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6699"/>
                  </a:solidFill>
                  <a:latin typeface="Arial"/>
                </a:rPr>
                <a:t>Compendium &amp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6699"/>
                  </a:solidFill>
                  <a:latin typeface="Arial"/>
                </a:rPr>
                <a:t>Good Pract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739280" y="2130480"/>
              <a:ext cx="102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Deliverab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06960" y="3160800"/>
              <a:ext cx="178992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dividual experien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as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arrativ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« Gut Feel »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132000" y="2994120"/>
              <a:ext cx="3600720" cy="1512720"/>
            </a:xfrm>
            <a:prstGeom prst="rtTriangl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rot="10800000">
              <a:off x="3151080" y="2932920"/>
              <a:ext cx="3600720" cy="1513080"/>
            </a:xfrm>
            <a:prstGeom prst="rtTriangl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985480" y="4505400"/>
              <a:ext cx="82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Shaping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031800" y="271800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Justifying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671440" y="2933640"/>
              <a:ext cx="119880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CF, NP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eal Op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ecision Tre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onte Carl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074400" y="4086360"/>
              <a:ext cx="1712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alue Roadm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ase based reaso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131360" y="3138480"/>
              <a:ext cx="19119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ystem Dynam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har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ortfolio Metho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ybrid intelligent 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imulation Ga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702960" y="5504040"/>
              <a:ext cx="326520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apabilities aud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rocesses &amp;  Resource based 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nagement team review (VC- perspectiv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059280" y="1201680"/>
              <a:ext cx="2178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canning &amp; Forecas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chnology Intellig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ut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202360" y="1195560"/>
              <a:ext cx="2178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Technology </a:t>
              </a:r>
              <a:br>
                <a:rPr sz="1200"/>
              </a:b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   roadmapp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Expert grou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" name=""/>
          <p:cNvSpPr/>
          <p:nvPr/>
        </p:nvSpPr>
        <p:spPr>
          <a:xfrm>
            <a:off x="-36360" y="2876400"/>
            <a:ext cx="24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What has happened </a:t>
            </a:r>
            <a:br>
              <a:rPr sz="1400"/>
            </a:b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in the past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617400" y="1739880"/>
            <a:ext cx="1673280" cy="84132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024360" y="1739880"/>
            <a:ext cx="1672920" cy="84132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e)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418000" y="1739880"/>
            <a:ext cx="1673280" cy="84132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754760" y="1739880"/>
            <a:ext cx="1673280" cy="84132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9" name=""/>
          <p:cNvCxnSpPr>
            <a:stCxn id="835" idx="3"/>
            <a:endCxn id="836" idx="1"/>
          </p:cNvCxnSpPr>
          <p:nvPr/>
        </p:nvCxnSpPr>
        <p:spPr>
          <a:xfrm>
            <a:off x="2290680" y="2160360"/>
            <a:ext cx="734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"/>
          <p:cNvCxnSpPr>
            <a:stCxn id="836" idx="3"/>
            <a:endCxn id="837" idx="1"/>
          </p:cNvCxnSpPr>
          <p:nvPr/>
        </p:nvCxnSpPr>
        <p:spPr>
          <a:xfrm>
            <a:off x="4697280" y="2160360"/>
            <a:ext cx="721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1" name=""/>
          <p:cNvCxnSpPr>
            <a:stCxn id="837" idx="3"/>
            <a:endCxn id="838" idx="1"/>
          </p:cNvCxnSpPr>
          <p:nvPr/>
        </p:nvCxnSpPr>
        <p:spPr>
          <a:xfrm>
            <a:off x="7090920" y="2160360"/>
            <a:ext cx="664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2" name=""/>
          <p:cNvSpPr/>
          <p:nvPr/>
        </p:nvSpPr>
        <p:spPr>
          <a:xfrm>
            <a:off x="3808440" y="423540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586760" y="4002120"/>
            <a:ext cx="308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isualisation &amp; communic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liability of methods u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mal or informal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945320" y="318924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104280" y="5056200"/>
            <a:ext cx="310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ols: qualitative or quantit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ustifying or shaping jud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ng or short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233720" y="427356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88640" y="5048280"/>
            <a:ext cx="266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ta: historical or futu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ta processing: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rtificial intellig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489400" y="317664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848240" y="3965400"/>
            <a:ext cx="250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data to right 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8410680" y="422748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207560" y="506412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ntrepreneurial capa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2" name=""/>
          <p:cNvCxnSpPr>
            <a:stCxn id="838" idx="3"/>
            <a:endCxn id="835" idx="1"/>
          </p:cNvCxnSpPr>
          <p:nvPr/>
        </p:nvCxnSpPr>
        <p:spPr>
          <a:xfrm flipH="1">
            <a:off x="617040" y="2160720"/>
            <a:ext cx="8811360" cy="2160"/>
          </a:xfrm>
          <a:prstGeom prst="bentConnector5">
            <a:avLst>
              <a:gd name="adj1" fmla="val -2590"/>
              <a:gd name="adj2" fmla="val 45500000"/>
              <a:gd name="adj3" fmla="val 102590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53" name=""/>
          <p:cNvSpPr/>
          <p:nvPr/>
        </p:nvSpPr>
        <p:spPr>
          <a:xfrm>
            <a:off x="4479840" y="2811600"/>
            <a:ext cx="178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yclical or ad h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419120" y="2585880"/>
            <a:ext cx="0" cy="185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671920" y="2141640"/>
            <a:ext cx="0" cy="12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995040" y="573120"/>
            <a:ext cx="55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99"/>
                </a:solidFill>
                <a:latin typeface="Arial Narrow"/>
              </a:rPr>
              <a:t>A technology valuation proces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665680" y="3255840"/>
            <a:ext cx="382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99"/>
                </a:solidFill>
                <a:latin typeface="Arial Narrow"/>
              </a:rPr>
              <a:t>…</a:t>
            </a:r>
            <a:r>
              <a:rPr b="1" i="1" lang="en-GB" sz="3200" spc="-1" strike="noStrike">
                <a:solidFill>
                  <a:srgbClr val="000099"/>
                </a:solidFill>
                <a:latin typeface="Arial Narrow"/>
              </a:rPr>
              <a:t>.and potential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141880" y="2163600"/>
            <a:ext cx="0" cy="12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005360" y="2585880"/>
            <a:ext cx="0" cy="185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8601120" y="2610000"/>
            <a:ext cx="0" cy="185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994680" y="573120"/>
            <a:ext cx="532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99"/>
                </a:solidFill>
                <a:latin typeface="Arial Narrow"/>
              </a:rPr>
              <a:t>Process of technology 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777960" y="1274760"/>
            <a:ext cx="8881560" cy="4789800"/>
            <a:chOff x="777960" y="1274760"/>
            <a:chExt cx="8881560" cy="4789800"/>
          </a:xfrm>
        </p:grpSpPr>
        <p:sp>
          <p:nvSpPr>
            <p:cNvPr id="863" name=""/>
            <p:cNvSpPr/>
            <p:nvPr/>
          </p:nvSpPr>
          <p:spPr>
            <a:xfrm>
              <a:off x="7993800" y="5061240"/>
              <a:ext cx="1665720" cy="70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process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ig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l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952080" y="3123720"/>
              <a:ext cx="2138040" cy="16729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156120" y="2154600"/>
              <a:ext cx="3648240" cy="3435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333440" y="3300120"/>
              <a:ext cx="1270440" cy="12355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360560" y="3211920"/>
              <a:ext cx="1268280" cy="12358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952080" y="3211920"/>
              <a:ext cx="190332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E)valu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crite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411200" y="3564360"/>
              <a:ext cx="95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440120" y="3564360"/>
              <a:ext cx="111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ut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411200" y="2949120"/>
              <a:ext cx="555480" cy="70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77960" y="2066040"/>
              <a:ext cx="1587600" cy="70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rateg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e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074800" y="4269600"/>
              <a:ext cx="712800" cy="79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74" name=""/>
            <p:cNvCxnSpPr>
              <a:stCxn id="867" idx="2"/>
              <a:endCxn id="866" idx="2"/>
            </p:cNvCxnSpPr>
            <p:nvPr/>
          </p:nvCxnSpPr>
          <p:spPr>
            <a:xfrm rot="5400000">
              <a:off x="4937400" y="1478160"/>
              <a:ext cx="88560" cy="6027480"/>
            </a:xfrm>
            <a:prstGeom prst="curvedConnector5">
              <a:avLst>
                <a:gd name="adj1" fmla="val 1833061"/>
                <a:gd name="adj2" fmla="val 50000"/>
                <a:gd name="adj3" fmla="val 183306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75" name=""/>
            <p:cNvSpPr/>
            <p:nvPr/>
          </p:nvSpPr>
          <p:spPr>
            <a:xfrm>
              <a:off x="2602080" y="3564360"/>
              <a:ext cx="554040" cy="6148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804720" y="3564360"/>
              <a:ext cx="555480" cy="6148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952080" y="2508480"/>
              <a:ext cx="19825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ext - Internal &amp; exter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market, time, culture…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028040" y="5678280"/>
              <a:ext cx="198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edback lo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566400" y="1715400"/>
              <a:ext cx="1984680" cy="70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Stage gat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Decision nodes (options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443320" y="1274760"/>
              <a:ext cx="174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ze/Stak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314880" y="1715400"/>
              <a:ext cx="712800" cy="149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 rot="16200000">
            <a:off x="4060800" y="2328480"/>
            <a:ext cx="1584360" cy="5689800"/>
          </a:xfrm>
          <a:custGeom>
            <a:avLst/>
            <a:gdLst>
              <a:gd name="textAreaLeft" fmla="*/ 348480 w 1584360"/>
              <a:gd name="textAreaRight" fmla="*/ 1235880 w 1584360"/>
              <a:gd name="textAreaTop" fmla="*/ 1251000 h 5689800"/>
              <a:gd name="textAreaBottom" fmla="*/ 4438800 h 568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504800" y="51735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8345520" y="4957920"/>
            <a:ext cx="934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ime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Life cy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513160" y="5532480"/>
            <a:ext cx="8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Qualif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761160" y="56055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Quantif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545160" y="52452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081160" y="524520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008080" y="4165560"/>
            <a:ext cx="0" cy="191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168800" y="4165560"/>
            <a:ext cx="0" cy="191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329520" y="4165560"/>
            <a:ext cx="0" cy="191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008080" y="387684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Concept evolu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168800" y="416556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NP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400800" y="423720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Business c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1793880" y="2076480"/>
            <a:ext cx="1582560" cy="837000"/>
            <a:chOff x="1793880" y="2076480"/>
            <a:chExt cx="1582560" cy="837000"/>
          </a:xfrm>
        </p:grpSpPr>
        <p:sp>
          <p:nvSpPr>
            <p:cNvPr id="896" name=""/>
            <p:cNvSpPr/>
            <p:nvPr/>
          </p:nvSpPr>
          <p:spPr>
            <a:xfrm>
              <a:off x="2349360" y="2279520"/>
              <a:ext cx="454320" cy="351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181240" y="2076480"/>
              <a:ext cx="774720" cy="72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793880" y="2316240"/>
              <a:ext cx="270000" cy="260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073320" y="2298600"/>
              <a:ext cx="270000" cy="2588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811160" y="2243160"/>
              <a:ext cx="11772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225960" y="2519280"/>
              <a:ext cx="15048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02" name=""/>
            <p:cNvCxnSpPr>
              <a:stCxn id="899" idx="2"/>
              <a:endCxn id="898" idx="2"/>
            </p:cNvCxnSpPr>
            <p:nvPr/>
          </p:nvCxnSpPr>
          <p:spPr>
            <a:xfrm rot="5400000">
              <a:off x="2558520" y="1927080"/>
              <a:ext cx="19800" cy="1280160"/>
            </a:xfrm>
            <a:prstGeom prst="curvedConnector5">
              <a:avLst>
                <a:gd name="adj1" fmla="val 1833333"/>
                <a:gd name="adj2" fmla="val 49985"/>
                <a:gd name="adj3" fmla="val 18333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03" name=""/>
            <p:cNvSpPr/>
            <p:nvPr/>
          </p:nvSpPr>
          <p:spPr>
            <a:xfrm>
              <a:off x="2063880" y="2371680"/>
              <a:ext cx="117360" cy="13032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955960" y="2371680"/>
              <a:ext cx="117360" cy="13032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2368440" y="30132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616800" y="29415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384800" y="301320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991080" y="573120"/>
            <a:ext cx="71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99"/>
                </a:solidFill>
                <a:latin typeface="Arial Narrow"/>
              </a:rPr>
              <a:t>Technology Valuation as a cyclical proc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3651120" y="2076480"/>
            <a:ext cx="1582560" cy="837000"/>
            <a:chOff x="3651120" y="2076480"/>
            <a:chExt cx="1582560" cy="837000"/>
          </a:xfrm>
        </p:grpSpPr>
        <p:sp>
          <p:nvSpPr>
            <p:cNvPr id="910" name=""/>
            <p:cNvSpPr/>
            <p:nvPr/>
          </p:nvSpPr>
          <p:spPr>
            <a:xfrm>
              <a:off x="4206600" y="2279520"/>
              <a:ext cx="454320" cy="351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038480" y="2076480"/>
              <a:ext cx="774720" cy="72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651120" y="2316240"/>
              <a:ext cx="270000" cy="260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930560" y="2298600"/>
              <a:ext cx="270000" cy="2588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668400" y="2243160"/>
              <a:ext cx="11772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083200" y="2519280"/>
              <a:ext cx="15048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16" name=""/>
            <p:cNvCxnSpPr>
              <a:stCxn id="913" idx="2"/>
              <a:endCxn id="912" idx="2"/>
            </p:cNvCxnSpPr>
            <p:nvPr/>
          </p:nvCxnSpPr>
          <p:spPr>
            <a:xfrm rot="5400000">
              <a:off x="4415760" y="1927080"/>
              <a:ext cx="19800" cy="1280160"/>
            </a:xfrm>
            <a:prstGeom prst="curvedConnector5">
              <a:avLst>
                <a:gd name="adj1" fmla="val 1833333"/>
                <a:gd name="adj2" fmla="val 49985"/>
                <a:gd name="adj3" fmla="val 18333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17" name=""/>
            <p:cNvSpPr/>
            <p:nvPr/>
          </p:nvSpPr>
          <p:spPr>
            <a:xfrm>
              <a:off x="3921120" y="2371680"/>
              <a:ext cx="117360" cy="13032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813200" y="2371680"/>
              <a:ext cx="117360" cy="13032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5827680" y="2076480"/>
            <a:ext cx="1582560" cy="837000"/>
            <a:chOff x="5827680" y="2076480"/>
            <a:chExt cx="1582560" cy="837000"/>
          </a:xfrm>
        </p:grpSpPr>
        <p:sp>
          <p:nvSpPr>
            <p:cNvPr id="920" name=""/>
            <p:cNvSpPr/>
            <p:nvPr/>
          </p:nvSpPr>
          <p:spPr>
            <a:xfrm>
              <a:off x="6383160" y="2279520"/>
              <a:ext cx="454320" cy="351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215040" y="2076480"/>
              <a:ext cx="774720" cy="72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827680" y="2316240"/>
              <a:ext cx="270000" cy="260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107120" y="2298600"/>
              <a:ext cx="270000" cy="2588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844960" y="2243160"/>
              <a:ext cx="11772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259760" y="2519280"/>
              <a:ext cx="15048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26" name=""/>
            <p:cNvCxnSpPr>
              <a:stCxn id="923" idx="2"/>
              <a:endCxn id="922" idx="2"/>
            </p:cNvCxnSpPr>
            <p:nvPr/>
          </p:nvCxnSpPr>
          <p:spPr>
            <a:xfrm rot="5400000">
              <a:off x="6592320" y="1927080"/>
              <a:ext cx="19800" cy="1280160"/>
            </a:xfrm>
            <a:prstGeom prst="curvedConnector5">
              <a:avLst>
                <a:gd name="adj1" fmla="val 1833333"/>
                <a:gd name="adj2" fmla="val 49985"/>
                <a:gd name="adj3" fmla="val 18333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7" name=""/>
            <p:cNvSpPr/>
            <p:nvPr/>
          </p:nvSpPr>
          <p:spPr>
            <a:xfrm>
              <a:off x="6097680" y="2371680"/>
              <a:ext cx="117360" cy="13032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989760" y="2371680"/>
              <a:ext cx="117360" cy="13032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991080" y="573120"/>
            <a:ext cx="77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99"/>
                </a:solidFill>
                <a:latin typeface="Arial Narrow"/>
              </a:rPr>
              <a:t>Valuation as the various stages of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758560" y="607392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ource: NA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59000" y="1150920"/>
            <a:ext cx="350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chnology Readiness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2" name="" descr=""/>
          <p:cNvPicPr/>
          <p:nvPr/>
        </p:nvPicPr>
        <p:blipFill>
          <a:blip r:embed="rId1"/>
          <a:stretch/>
        </p:blipFill>
        <p:spPr>
          <a:xfrm>
            <a:off x="488880" y="1636560"/>
            <a:ext cx="6783480" cy="4402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9440" y="7790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Arial Narrow"/>
              </a:rPr>
              <a:t>Valuing technology – an overvie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90840" y="2085840"/>
            <a:ext cx="613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Financial metho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Roadmapping approa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Expert judgement &amp; gut f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Portfolio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Towards a framework for 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"/>
          <p:cNvSpPr/>
          <p:nvPr/>
        </p:nvSpPr>
        <p:spPr>
          <a:xfrm>
            <a:off x="993960" y="573120"/>
            <a:ext cx="565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99"/>
                </a:solidFill>
                <a:latin typeface="Arial Narrow"/>
              </a:rPr>
              <a:t>Valuation and technology mat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99"/>
                </a:solidFill>
                <a:latin typeface="Arial Narrow"/>
              </a:rPr>
              <a:t>- tools and the valuation timeli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825480" y="1681200"/>
            <a:ext cx="8217000" cy="4592520"/>
            <a:chOff x="825480" y="1681200"/>
            <a:chExt cx="8217000" cy="4592520"/>
          </a:xfrm>
        </p:grpSpPr>
        <p:sp>
          <p:nvSpPr>
            <p:cNvPr id="935" name=""/>
            <p:cNvSpPr/>
            <p:nvPr/>
          </p:nvSpPr>
          <p:spPr>
            <a:xfrm>
              <a:off x="1155600" y="2671920"/>
              <a:ext cx="4292640" cy="6094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Valu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roadmapp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146320" y="3662280"/>
              <a:ext cx="3714840" cy="8384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Customised portfol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metho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207040" y="2949480"/>
              <a:ext cx="2476440" cy="8384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IT support tools such 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case-based reaso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25480" y="1681200"/>
              <a:ext cx="1898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Early st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technolog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686640" y="1681200"/>
              <a:ext cx="1898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Ma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technolog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952880" y="4424400"/>
              <a:ext cx="3797280" cy="8380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CF/NP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981080" y="5338800"/>
              <a:ext cx="5118120" cy="3650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Options think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990720" y="2443320"/>
              <a:ext cx="7924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632040" y="1986120"/>
              <a:ext cx="255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Increasing technology matu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214280" y="5908680"/>
              <a:ext cx="7828200" cy="3650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Gut fe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990720" y="573120"/>
            <a:ext cx="772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 Narrow"/>
              </a:rPr>
              <a:t>An overview of needs, methods used, and ga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089000" y="2379600"/>
            <a:ext cx="8272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027440" y="1908000"/>
            <a:ext cx="62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058760" y="2511360"/>
            <a:ext cx="2570400" cy="35114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eed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means to visualise and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cuss what next generation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ll be, take into account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ncertainty technical,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rket and organisa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thod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“gut feel” approach,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lue roadmapp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ap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given the inherent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ncertainty, balance betwee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alysis and imagination,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y e.g. communication and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isualis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629400" y="2523960"/>
            <a:ext cx="2570040" cy="35118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ed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quantify and mitigat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ical risk contracts an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tain full potential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ring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thod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Structured financi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ols, but technical risk don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trusted expe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p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reuse of accumulate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eri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800520" y="2509920"/>
            <a:ext cx="2570040" cy="35114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ed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how to selec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ologies coming out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arch for furthe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ment, and how to “sell”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as to business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thod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hybrid portfoli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p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communication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arency an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-perspective appro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633120" y="533520"/>
            <a:ext cx="262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333399"/>
                </a:solidFill>
                <a:latin typeface="Arial Narrow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838080" y="1600200"/>
            <a:ext cx="857592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at experiences do you have of valu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at tools have you found usefu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ave you had problems with transparency and communic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at are the key issues in your compan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at support do you think needs to be develop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2518920" y="533520"/>
            <a:ext cx="487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333399"/>
                </a:solidFill>
                <a:latin typeface="Arial Narrow"/>
              </a:rPr>
              <a:t>Exercise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838080" y="1600200"/>
            <a:ext cx="8575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echnology readiness levels (TRLs) were introduced by NASA and are now used widely in the defence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y seek to remove ambiguity from discussions about technology development to facilitate effective technology management and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s it possible to define Market Readiness Levels in the same way that NASA defined TRLs? Does this support a more systematic approach to valuing technolog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333399"/>
                </a:solidFill>
                <a:latin typeface="Arial Narrow"/>
              </a:rPr>
              <a:t>Valuation emphas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6" name=""/>
          <p:cNvGraphicFramePr/>
          <p:nvPr/>
        </p:nvGraphicFramePr>
        <p:xfrm>
          <a:off x="495360" y="1600200"/>
          <a:ext cx="8915400" cy="438156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  <a:gridCol w="2971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arly stage techn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id stage techn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te stage techn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ze of pr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bility to position strong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ofitability – only start subtracting costs he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ateg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p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i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ision of “gold medal” (long ter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ining in g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ace and tac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rket projection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rket sizing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/>
          <p:nvPr/>
        </p:nvSpPr>
        <p:spPr>
          <a:xfrm>
            <a:off x="2595600" y="533520"/>
            <a:ext cx="471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333399"/>
                </a:solidFill>
                <a:latin typeface="Arial Narrow"/>
              </a:rPr>
              <a:t>Exercise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838080" y="1600200"/>
            <a:ext cx="8575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SA’s Technology Readiness Leve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: Mankins (1995)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chnology Readiness Levels: A White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principles observed and repor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 concept and/or application formul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tical and experimental critical function and/or characteristic proof of conc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 and/or breadboard validation in laboratory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 and/or breadboard validation in relevant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/subsystem model or prototype demonstration in a relevant environment (ground or sp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prototype demonstration in a space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ual system completed and 'flight qualified' through test and demonstration (ground or sp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ual system 'flight proven' through successful mission 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2541600" y="533520"/>
            <a:ext cx="481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333399"/>
                </a:solidFill>
                <a:latin typeface="Arial Narrow"/>
              </a:rPr>
              <a:t>Exercise instru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838080" y="1600200"/>
            <a:ext cx="857592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plit into pairs for the exerc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view material on Technology Readiness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ke a first draft definition of Market Readiness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nk about how they could be useful in your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s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unctional 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coring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ffort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2862360" y="533520"/>
            <a:ext cx="417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333399"/>
                </a:solidFill>
                <a:latin typeface="Arial Narrow"/>
              </a:rPr>
              <a:t>Exercise feedb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838080" y="1600200"/>
            <a:ext cx="857592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ach pair to report bac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posed Market Readiness Lev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mments on potential use in supporting technology 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/>
          <p:nvPr/>
        </p:nvSpPr>
        <p:spPr>
          <a:xfrm>
            <a:off x="3089160" y="533520"/>
            <a:ext cx="372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333399"/>
                </a:solidFill>
                <a:latin typeface="Arial Narrow"/>
              </a:rPr>
              <a:t>Workshop cl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838080" y="1600200"/>
            <a:ext cx="8575920" cy="31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mments on worksho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s it met your objective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ny comments on content or form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me take-aways avail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apers, description of s/w tool for decision trees, TR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114640" y="1484280"/>
            <a:ext cx="2666880" cy="15238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57680" y="1477800"/>
            <a:ext cx="2667240" cy="15242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8600" y="3008160"/>
            <a:ext cx="2666880" cy="15242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97560" y="4641840"/>
            <a:ext cx="2666880" cy="15238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28680" y="4618080"/>
            <a:ext cx="2667240" cy="15238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29520" y="671400"/>
            <a:ext cx="729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99"/>
                </a:solidFill>
                <a:latin typeface="Arial"/>
              </a:rPr>
              <a:t>Desirable features of a valuation t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81600" y="1998720"/>
            <a:ext cx="620640" cy="512640"/>
          </a:xfrm>
          <a:prstGeom prst="leftRightArrow">
            <a:avLst>
              <a:gd name="adj1" fmla="val 50000"/>
              <a:gd name="adj2" fmla="val 2410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059560" y="1984320"/>
            <a:ext cx="631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unted cash flow, NPV, payback, etc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options &amp; decision tre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495680" y="3733920"/>
            <a:ext cx="3897360" cy="2361960"/>
            <a:chOff x="4495680" y="3733920"/>
            <a:chExt cx="3897360" cy="2361960"/>
          </a:xfrm>
        </p:grpSpPr>
        <p:sp>
          <p:nvSpPr>
            <p:cNvPr id="101" name=""/>
            <p:cNvSpPr/>
            <p:nvPr/>
          </p:nvSpPr>
          <p:spPr>
            <a:xfrm>
              <a:off x="7467480" y="3733920"/>
              <a:ext cx="304920" cy="304560"/>
            </a:xfrm>
            <a:prstGeom prst="ellipse">
              <a:avLst/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15000" y="4419720"/>
              <a:ext cx="304920" cy="304560"/>
            </a:xfrm>
            <a:prstGeom prst="ellipse">
              <a:avLst/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95680" y="4419720"/>
              <a:ext cx="304920" cy="304560"/>
            </a:xfrm>
            <a:prstGeom prst="ellipse">
              <a:avLst/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11760" y="457200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5943600" y="3978000"/>
              <a:ext cx="366840" cy="463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64240" y="388620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943600" y="4702320"/>
              <a:ext cx="338040" cy="43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477120" y="4825800"/>
              <a:ext cx="355320" cy="35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83560" y="388620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97760" y="472428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86600" y="594360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48520" y="3733920"/>
              <a:ext cx="304560" cy="304560"/>
            </a:xfrm>
            <a:prstGeom prst="ellipse">
              <a:avLst/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81680" y="4572000"/>
              <a:ext cx="304920" cy="304920"/>
            </a:xfrm>
            <a:prstGeom prst="ellipse">
              <a:avLst/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48520" y="5105520"/>
              <a:ext cx="304560" cy="304560"/>
            </a:xfrm>
            <a:prstGeom prst="ellipse">
              <a:avLst/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81680" y="5791320"/>
              <a:ext cx="304920" cy="304560"/>
            </a:xfrm>
            <a:prstGeom prst="ellipse">
              <a:avLst/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86480" y="5378400"/>
              <a:ext cx="338040" cy="425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600200" y="3962520"/>
            <a:ext cx="1676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An option is a right (but not an obligation) to do some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33480" y="671400"/>
            <a:ext cx="39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99"/>
                </a:solidFill>
                <a:latin typeface="Arial"/>
              </a:rPr>
              <a:t>Financial mea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6643800" cy="4370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172960" y="422280"/>
            <a:ext cx="564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Discounted cash flow 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and the time value of mo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272440" y="4343400"/>
            <a:ext cx="16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@ 10% inter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932120" y="1293840"/>
            <a:ext cx="128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 R&amp;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97800" y="1293840"/>
            <a:ext cx="113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u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n 1 ye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837920" y="1219320"/>
            <a:ext cx="12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n 2 yea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05160" y="3757680"/>
            <a:ext cx="53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42120" y="375768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48720" y="36910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$6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25600" y="336060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$15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7240" y="5734080"/>
            <a:ext cx="86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V@12%  =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-$6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-$15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1.12     +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$10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1.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=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-$11.4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995600" y="337968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+$10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8224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Example DCF calc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17400" y="2031840"/>
            <a:ext cx="8960040" cy="237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44424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When discounted cash flow 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stops being usef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0320" y="2184480"/>
            <a:ext cx="869328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discounted cash flow methods are po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estimating project valu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ncertain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lexib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hi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0T12:27:48Z</dcterms:created>
  <dc:creator>Rob Phaal</dc:creator>
  <dc:description/>
  <cp:keywords/>
  <dc:language>en-US</dc:language>
  <cp:lastModifiedBy>cjp2</cp:lastModifiedBy>
  <cp:lastPrinted>2001-09-04T10:45:25Z</cp:lastPrinted>
  <dcterms:modified xsi:type="dcterms:W3CDTF">2005-09-26T08:45:59Z</dcterms:modified>
  <cp:revision>360</cp:revision>
  <dc:subject/>
  <dc:title>No Slide Title</dc:title>
</cp:coreProperties>
</file>